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049A-42D6-424D-915E-072D99BF0F2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B0C7-0675-4187-A785-08B66370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AB2-44A4-4182-BC9A-F67200DD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CAB-E923-40B8-BDF7-3266D83E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72C-BCAA-44BA-8A3A-AE4ADFB4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E3F0-7FEA-46E9-B113-5354F81A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BEEE-E16E-4307-9EA6-C8706EB3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F622-44E4-4281-841F-31FAB56B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D9B7-4A8F-4CFE-83EE-C4A0E234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B928-C6A4-45AF-88DD-516D090C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B8D6-F87A-438C-B7C2-05B6242A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EB6E-B826-4CBD-97E1-C06D8BC5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E14A-1324-4AB0-9F85-D3D3A922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A292-5D51-4FFF-A46B-9C22A7E1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25B0-82B2-4975-9519-87FF4420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D9C5-A778-4DB0-8178-B25D3F00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02B7-DC87-4D74-85A3-D77DEEBB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7A3F-9D8D-48BA-9E38-479B116C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6198-3A68-499E-AA9B-01349A39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C3D5-755B-47D5-99D9-7385CD4D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387-CE0A-4697-84DC-FC401CE7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E39-DC2A-42D2-90B5-EC33ACF9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4C6-D1CE-4B6C-80D0-F39C6184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B42-3AC4-41BC-B80D-2AB2F5EB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93A-5A14-4E36-B563-6DA3D2CE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452D-4763-4DC2-9D1F-1863632B8606}" type="slidenum"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2EF2-D907-44BB-89D4-D138202B3FF0}" type="slidenum"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331000"/>
            <a:ext cx="822636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GNU Radi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71640" y="3885840"/>
            <a:ext cx="7129440" cy="15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eaeaea"/>
                </a:solidFill>
                <a:latin typeface="Arial"/>
              </a:rPr>
              <a:t>Chen Zhife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eaeaea"/>
                </a:solidFill>
                <a:latin typeface="Arial"/>
              </a:rPr>
              <a:t>Chen Ke-Yu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Electrical and Computer Engineer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University of Flori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overal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400960" cy="29098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468360" y="2205000"/>
            <a:ext cx="1800000" cy="3168720"/>
            <a:chOff x="468360" y="2205000"/>
            <a:chExt cx="1800000" cy="3168720"/>
          </a:xfrm>
        </p:grpSpPr>
        <p:sp>
          <p:nvSpPr>
            <p:cNvPr id="240" name=""/>
            <p:cNvSpPr/>
            <p:nvPr/>
          </p:nvSpPr>
          <p:spPr>
            <a:xfrm>
              <a:off x="468360" y="2205000"/>
              <a:ext cx="1800000" cy="273672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5640" y="5013360"/>
              <a:ext cx="122400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ecff"/>
                  </a:solidFill>
                  <a:latin typeface="Arial"/>
                </a:rPr>
                <a:t>Softwar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84360" y="3284640"/>
            <a:ext cx="1366920" cy="1152360"/>
            <a:chOff x="2484360" y="3284640"/>
            <a:chExt cx="1366920" cy="1152360"/>
          </a:xfrm>
        </p:grpSpPr>
        <p:sp>
          <p:nvSpPr>
            <p:cNvPr id="243" name=""/>
            <p:cNvSpPr/>
            <p:nvPr/>
          </p:nvSpPr>
          <p:spPr>
            <a:xfrm>
              <a:off x="2484360" y="3284640"/>
              <a:ext cx="1366920" cy="72072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56000" y="4076640"/>
              <a:ext cx="122400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ecff"/>
                  </a:solidFill>
                  <a:latin typeface="Arial"/>
                </a:rPr>
                <a:t>Hardwar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248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251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457200" y="1701720"/>
            <a:ext cx="1120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28600" y="4495680"/>
            <a:ext cx="1512720" cy="1441080"/>
            <a:chOff x="228600" y="4495680"/>
            <a:chExt cx="1512720" cy="1441080"/>
          </a:xfrm>
        </p:grpSpPr>
        <p:sp>
          <p:nvSpPr>
            <p:cNvPr id="258" name=""/>
            <p:cNvSpPr/>
            <p:nvPr/>
          </p:nvSpPr>
          <p:spPr>
            <a:xfrm>
              <a:off x="286200" y="4856040"/>
              <a:ext cx="1455120" cy="108072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User-defined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8600" y="4495680"/>
              <a:ext cx="1512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</a:rPr>
                <a:t>Receiv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77920" y="2095560"/>
            <a:ext cx="1512720" cy="1152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262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835280" y="5075280"/>
            <a:ext cx="7129440" cy="792000"/>
            <a:chOff x="1835280" y="5075280"/>
            <a:chExt cx="7129440" cy="792000"/>
          </a:xfrm>
        </p:grpSpPr>
        <p:sp>
          <p:nvSpPr>
            <p:cNvPr id="265" name=""/>
            <p:cNvSpPr/>
            <p:nvPr/>
          </p:nvSpPr>
          <p:spPr>
            <a:xfrm flipH="1">
              <a:off x="7416720" y="5437080"/>
              <a:ext cx="5032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8101080" y="5076720"/>
              <a:ext cx="863640" cy="360000"/>
              <a:chOff x="8101080" y="5076720"/>
              <a:chExt cx="863640" cy="360000"/>
            </a:xfrm>
          </p:grpSpPr>
          <p:sp>
            <p:nvSpPr>
              <p:cNvPr id="267" name=""/>
              <p:cNvSpPr/>
              <p:nvPr/>
            </p:nvSpPr>
            <p:spPr>
              <a:xfrm>
                <a:off x="8101080" y="5436720"/>
                <a:ext cx="64764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8748720" y="5076720"/>
                <a:ext cx="0" cy="36000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8532720" y="5076720"/>
                <a:ext cx="215640" cy="36000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8748720" y="5076720"/>
                <a:ext cx="216000" cy="36000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995280" y="5148000"/>
              <a:ext cx="1368360" cy="576000"/>
              <a:chOff x="3995280" y="5148000"/>
              <a:chExt cx="1368360" cy="576000"/>
            </a:xfrm>
          </p:grpSpPr>
          <p:sp>
            <p:nvSpPr>
              <p:cNvPr id="272" name=""/>
              <p:cNvSpPr/>
              <p:nvPr/>
            </p:nvSpPr>
            <p:spPr>
              <a:xfrm>
                <a:off x="4530960" y="5148000"/>
                <a:ext cx="832680" cy="576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ADC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995280" y="5410080"/>
                <a:ext cx="41580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5435640" y="5075280"/>
              <a:ext cx="1873080" cy="792000"/>
              <a:chOff x="5435640" y="5075280"/>
              <a:chExt cx="1873080" cy="792000"/>
            </a:xfrm>
          </p:grpSpPr>
          <p:sp>
            <p:nvSpPr>
              <p:cNvPr id="275" name=""/>
              <p:cNvSpPr/>
              <p:nvPr/>
            </p:nvSpPr>
            <p:spPr>
              <a:xfrm>
                <a:off x="6084720" y="5075280"/>
                <a:ext cx="1224000" cy="792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RF 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Front end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5435640" y="5435640"/>
                <a:ext cx="50328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H="1">
              <a:off x="2844360" y="5437080"/>
              <a:ext cx="289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03640" y="5148000"/>
              <a:ext cx="720720" cy="57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835280" y="5148000"/>
              <a:ext cx="934920" cy="576000"/>
              <a:chOff x="1835280" y="5148000"/>
              <a:chExt cx="934920" cy="576000"/>
            </a:xfrm>
          </p:grpSpPr>
          <p:sp>
            <p:nvSpPr>
              <p:cNvPr id="280" name=""/>
              <p:cNvSpPr/>
              <p:nvPr/>
            </p:nvSpPr>
            <p:spPr>
              <a:xfrm flipH="1">
                <a:off x="1835280" y="5436720"/>
                <a:ext cx="28872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95640" y="5148000"/>
                <a:ext cx="574560" cy="576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USB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283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286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3352680"/>
            <a:ext cx="251460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RP (mother board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352680"/>
            <a:ext cx="53316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294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297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03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06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09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479680" y="3124080"/>
            <a:ext cx="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3657240"/>
            <a:ext cx="7924680" cy="2057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Support USB2.0/At this stage, USB 1.x is not supported at a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Support 32MB/sec across the USB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All samples sent over the USB interface are in 16-bit signed integers in IQ format,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16-bit I and 16-bit Q data (complex), resulting in 8M complex samples/sec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across the USB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317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320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26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29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32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505320" y="3135240"/>
            <a:ext cx="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160" y="3657240"/>
            <a:ext cx="7924680" cy="289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Includes digital down converters (DDC) implemented with cascaded integrator-comb (CIC) filters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eaeaea"/>
                </a:solidFill>
                <a:latin typeface="Arial"/>
              </a:rPr>
              <a:t>DD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Down converts the signal from the IF band to the base band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Decimates the signal so that the data rate can be adapted by the USB 2.0 and is reasonable for the computers' computing capability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Digital up converters (DUCs) on the transmit side are actually contained in the AD9862 CODEC chips, not in the FPGA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The only transmit signal processing blocks in the FPGA are the interpolators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340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343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49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52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55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5029200" y="3124080"/>
            <a:ext cx="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3657600"/>
            <a:ext cx="7925040" cy="1295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4 high-speed 14-bit DA converters, DAC clock frequency is 128 MS/s </a:t>
            </a:r>
            <a:br>
              <a:rPr sz="1600"/>
            </a:b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(stay below about 50MHz or so to make filtering easier.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4 high-speed 12-bit AD converters, sampling rate is 64M samples per second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363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366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72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75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78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H="1">
            <a:off x="6705720" y="3200400"/>
            <a:ext cx="144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3733560"/>
            <a:ext cx="792504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One mother board support  up to four daughter boards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2. Several kinds of daughter boards availabl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Soft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3581280"/>
            <a:ext cx="8226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NU radio has provided some useful AP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we are interested in at this time i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how to use the existing modul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t has been provided  in GNU radio project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o communicate between two end syste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2200" y="172548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508720" y="1941480"/>
            <a:ext cx="1800000" cy="792000"/>
            <a:chOff x="5508720" y="1941480"/>
            <a:chExt cx="1800000" cy="792000"/>
          </a:xfrm>
        </p:grpSpPr>
        <p:sp>
          <p:nvSpPr>
            <p:cNvPr id="387" name=""/>
            <p:cNvSpPr/>
            <p:nvPr/>
          </p:nvSpPr>
          <p:spPr>
            <a:xfrm>
              <a:off x="6084720" y="194148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08720" y="230184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381800" y="1943280"/>
            <a:ext cx="1617840" cy="358560"/>
            <a:chOff x="7381800" y="1943280"/>
            <a:chExt cx="1617840" cy="358560"/>
          </a:xfrm>
        </p:grpSpPr>
        <p:sp>
          <p:nvSpPr>
            <p:cNvPr id="390" name=""/>
            <p:cNvSpPr/>
            <p:nvPr/>
          </p:nvSpPr>
          <p:spPr>
            <a:xfrm>
              <a:off x="7381800" y="230184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01080" y="230184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8748720" y="194328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8531280" y="1943280"/>
              <a:ext cx="21744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8748720" y="1943280"/>
              <a:ext cx="25092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57200" y="1295280"/>
            <a:ext cx="1120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7920" y="1689120"/>
            <a:ext cx="1512720" cy="1152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995640" y="2013120"/>
            <a:ext cx="1439640" cy="576000"/>
            <a:chOff x="3995640" y="2013120"/>
            <a:chExt cx="1439640" cy="576000"/>
          </a:xfrm>
        </p:grpSpPr>
        <p:sp>
          <p:nvSpPr>
            <p:cNvPr id="398" name=""/>
            <p:cNvSpPr/>
            <p:nvPr/>
          </p:nvSpPr>
          <p:spPr>
            <a:xfrm>
              <a:off x="3995640" y="227520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59040" y="2013120"/>
              <a:ext cx="876240" cy="57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835280" y="2014560"/>
            <a:ext cx="936360" cy="576360"/>
            <a:chOff x="1835280" y="2014560"/>
            <a:chExt cx="936360" cy="576360"/>
          </a:xfrm>
        </p:grpSpPr>
        <p:sp>
          <p:nvSpPr>
            <p:cNvPr id="401" name=""/>
            <p:cNvSpPr/>
            <p:nvPr/>
          </p:nvSpPr>
          <p:spPr>
            <a:xfrm>
              <a:off x="2197080" y="201456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35280" y="230184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843280" y="2014560"/>
            <a:ext cx="1081080" cy="576360"/>
            <a:chOff x="2843280" y="2014560"/>
            <a:chExt cx="1081080" cy="576360"/>
          </a:xfrm>
        </p:grpSpPr>
        <p:sp>
          <p:nvSpPr>
            <p:cNvPr id="404" name=""/>
            <p:cNvSpPr/>
            <p:nvPr/>
          </p:nvSpPr>
          <p:spPr>
            <a:xfrm>
              <a:off x="2843280" y="230184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03640" y="201456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219320" y="2971800"/>
            <a:ext cx="533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00200" y="2666880"/>
            <a:ext cx="76212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Soft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these modules co-work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rformance-critical mod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yth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66"/>
                </a:solidFill>
                <a:uFillTx/>
                <a:latin typeface="Arial"/>
              </a:rPr>
              <a:t>Glu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to connect mod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 performance-critical mod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Soft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t python level, what we need to do is always just to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draw a diagram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showing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the signal flow from the source to the sink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in our mi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1916280"/>
            <a:ext cx="433440" cy="433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28720" y="3139920"/>
            <a:ext cx="433440" cy="4334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403280" y="155736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26920" y="2708280"/>
            <a:ext cx="5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411280" y="2205000"/>
            <a:ext cx="5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3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11280" y="2637000"/>
            <a:ext cx="433440" cy="433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08360" y="2133720"/>
            <a:ext cx="1440000" cy="1152360"/>
          </a:xfrm>
          <a:prstGeom prst="rightArrow">
            <a:avLst>
              <a:gd name="adj1" fmla="val 50000"/>
              <a:gd name="adj2" fmla="val 31240"/>
            </a:avLst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5724360" y="1628640"/>
            <a:ext cx="2089440" cy="2016360"/>
            <a:chOff x="5724360" y="1628640"/>
            <a:chExt cx="2089440" cy="2016360"/>
          </a:xfrm>
        </p:grpSpPr>
        <p:sp>
          <p:nvSpPr>
            <p:cNvPr id="420" name=""/>
            <p:cNvSpPr/>
            <p:nvPr/>
          </p:nvSpPr>
          <p:spPr>
            <a:xfrm>
              <a:off x="6300720" y="1987560"/>
              <a:ext cx="433440" cy="4334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26160" y="3211560"/>
              <a:ext cx="433440" cy="4334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00720" y="1628640"/>
              <a:ext cx="5047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24360" y="2779560"/>
              <a:ext cx="50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08720" y="2276640"/>
              <a:ext cx="50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V3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08720" y="2708280"/>
              <a:ext cx="433440" cy="4334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6732720" y="2276640"/>
            <a:ext cx="647640" cy="5047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013440" y="2492280"/>
            <a:ext cx="430200" cy="6494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92720" y="1628640"/>
            <a:ext cx="2735280" cy="2232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7280" y="3284640"/>
            <a:ext cx="1657080" cy="358560"/>
            <a:chOff x="4067280" y="3284640"/>
            <a:chExt cx="1657080" cy="358560"/>
          </a:xfrm>
        </p:grpSpPr>
        <p:sp>
          <p:nvSpPr>
            <p:cNvPr id="430" name=""/>
            <p:cNvSpPr/>
            <p:nvPr/>
          </p:nvSpPr>
          <p:spPr>
            <a:xfrm>
              <a:off x="4067280" y="3284640"/>
              <a:ext cx="10792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ecff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76720" y="3500280"/>
              <a:ext cx="64764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7812000" y="2781360"/>
            <a:ext cx="1224000" cy="288720"/>
            <a:chOff x="7812000" y="2781360"/>
            <a:chExt cx="1224000" cy="288720"/>
          </a:xfrm>
        </p:grpSpPr>
        <p:sp>
          <p:nvSpPr>
            <p:cNvPr id="433" name=""/>
            <p:cNvSpPr/>
            <p:nvPr/>
          </p:nvSpPr>
          <p:spPr>
            <a:xfrm>
              <a:off x="7812000" y="2924280"/>
              <a:ext cx="5763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8360" y="2781360"/>
              <a:ext cx="6476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ecff"/>
                  </a:solidFill>
                  <a:latin typeface="Arial"/>
                </a:rPr>
                <a:t>Sin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SPE (Stani’s Python Edit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Lack of powerful debug tool (breakpoin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007400" cy="437832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velopment environ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00000" y="3141720"/>
            <a:ext cx="1584360" cy="2303280"/>
            <a:chOff x="900000" y="3141720"/>
            <a:chExt cx="1584360" cy="2303280"/>
          </a:xfrm>
        </p:grpSpPr>
        <p:sp>
          <p:nvSpPr>
            <p:cNvPr id="439" name=""/>
            <p:cNvSpPr/>
            <p:nvPr/>
          </p:nvSpPr>
          <p:spPr>
            <a:xfrm>
              <a:off x="900000" y="3141720"/>
              <a:ext cx="1584360" cy="2303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16000" y="3933720"/>
              <a:ext cx="1224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lorer of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and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 members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843280" y="3141720"/>
            <a:ext cx="4897440" cy="2303280"/>
            <a:chOff x="2843280" y="3141720"/>
            <a:chExt cx="4897440" cy="2303280"/>
          </a:xfrm>
        </p:grpSpPr>
        <p:sp>
          <p:nvSpPr>
            <p:cNvPr id="442" name=""/>
            <p:cNvSpPr/>
            <p:nvPr/>
          </p:nvSpPr>
          <p:spPr>
            <a:xfrm>
              <a:off x="2843280" y="3141720"/>
              <a:ext cx="4897440" cy="2303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40360" y="4508640"/>
              <a:ext cx="122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 edito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900000" y="5661000"/>
            <a:ext cx="6767640" cy="647640"/>
            <a:chOff x="900000" y="5661000"/>
            <a:chExt cx="6767640" cy="647640"/>
          </a:xfrm>
        </p:grpSpPr>
        <p:sp>
          <p:nvSpPr>
            <p:cNvPr id="445" name=""/>
            <p:cNvSpPr/>
            <p:nvPr/>
          </p:nvSpPr>
          <p:spPr>
            <a:xfrm>
              <a:off x="900000" y="5661000"/>
              <a:ext cx="6767640" cy="647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11640" y="5734080"/>
              <a:ext cx="3313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preter &amp; debug window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76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72400" cy="50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Why GNU Radio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Extensive knowledge involv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What is implemented currentl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evelopment environ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evelopment Boa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urrent Issu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What is next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velopment environment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Wingw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More powerfu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or personal version, the license fee to two stations are $6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274160" cy="4500720"/>
          </a:xfrm>
          <a:prstGeom prst="rect">
            <a:avLst/>
          </a:prstGeom>
          <a:ln w="0">
            <a:noFill/>
          </a:ln>
        </p:spPr>
      </p:pic>
      <p:grpSp>
        <p:nvGrpSpPr>
          <p:cNvPr id="450" name=""/>
          <p:cNvGrpSpPr/>
          <p:nvPr/>
        </p:nvGrpSpPr>
        <p:grpSpPr>
          <a:xfrm>
            <a:off x="900000" y="3284640"/>
            <a:ext cx="5184720" cy="1873080"/>
            <a:chOff x="900000" y="3284640"/>
            <a:chExt cx="5184720" cy="1873080"/>
          </a:xfrm>
        </p:grpSpPr>
        <p:sp>
          <p:nvSpPr>
            <p:cNvPr id="451" name=""/>
            <p:cNvSpPr/>
            <p:nvPr/>
          </p:nvSpPr>
          <p:spPr>
            <a:xfrm>
              <a:off x="900000" y="3284640"/>
              <a:ext cx="5184720" cy="1873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70560" y="3500280"/>
              <a:ext cx="12967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 edito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3564000" y="5589720"/>
            <a:ext cx="2663640" cy="718920"/>
            <a:chOff x="3564000" y="5589720"/>
            <a:chExt cx="2663640" cy="718920"/>
          </a:xfrm>
        </p:grpSpPr>
        <p:sp>
          <p:nvSpPr>
            <p:cNvPr id="454" name=""/>
            <p:cNvSpPr/>
            <p:nvPr/>
          </p:nvSpPr>
          <p:spPr>
            <a:xfrm>
              <a:off x="3564000" y="5589720"/>
              <a:ext cx="2663640" cy="647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59280" y="5805360"/>
              <a:ext cx="1305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pret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443640" y="2997360"/>
            <a:ext cx="1584360" cy="3384000"/>
            <a:chOff x="6443640" y="2997360"/>
            <a:chExt cx="1584360" cy="3384000"/>
          </a:xfrm>
        </p:grpSpPr>
        <p:sp>
          <p:nvSpPr>
            <p:cNvPr id="457" name=""/>
            <p:cNvSpPr/>
            <p:nvPr/>
          </p:nvSpPr>
          <p:spPr>
            <a:xfrm>
              <a:off x="6443640" y="2997360"/>
              <a:ext cx="1584360" cy="3384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59640" y="4160880"/>
              <a:ext cx="122400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lorer of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and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 members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826920" y="5373720"/>
            <a:ext cx="2665440" cy="1150920"/>
            <a:chOff x="826920" y="5373720"/>
            <a:chExt cx="2665440" cy="1150920"/>
          </a:xfrm>
        </p:grpSpPr>
        <p:sp>
          <p:nvSpPr>
            <p:cNvPr id="460" name=""/>
            <p:cNvSpPr/>
            <p:nvPr/>
          </p:nvSpPr>
          <p:spPr>
            <a:xfrm>
              <a:off x="826920" y="5373720"/>
              <a:ext cx="2665440" cy="1150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47640" y="5877000"/>
              <a:ext cx="1224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bug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Development Boa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911160" y="1606680"/>
          <a:ext cx="7391520" cy="4746600"/>
        </p:xfrm>
        <a:graphic>
          <a:graphicData uri="http://schemas.openxmlformats.org/drawingml/2006/table">
            <a:tbl>
              <a:tblPr/>
              <a:tblGrid>
                <a:gridCol w="6126120"/>
                <a:gridCol w="12654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Verdana"/>
                          <a:ea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USRP Motherboar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00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BasicTX -- 2 MHz to 200 MHz Transmitt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BasicRX -- 2 MHz to 300+ M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FTX -- DC-30 MHz Transmitt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FRX -- DC-30 M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VRX -- 50 MHz to 870 M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100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DBSRX -- 800 MHz to 2.4 G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150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400 -- 400-500 M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900 -- 800-1000M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1200 -- 1150 MHz - 1450 M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1800 -- 1.5-2.1 G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2400 -- 2.3-2.9 GHz Transceiver, 20+mW outpu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77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USRP Motherboard</a:t>
            </a: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3196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 64 MS/s 12-bit analog to digital Converter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 128 MS/s 14-bit digital to analog Converter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 digital downconverters with programmable decimation rate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wo digital upconverters with programmable interpolation rate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High-speed USB 2.0 interface (480 Mb/s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apable of processing signals up to 16 MHz wid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odular architecture supports wide variety of RF daughterboard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uxiliary analog and digital I/O support complex radio controls such as RSSI and AG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ully coherent multi-channel systems (MIMO capable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74328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BasicT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2 MHz to 200 MHz Transmitt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24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signed for use with external RF frontends as an intermediate frequency (IF) interfa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AC outputs are directly transformer-coupled to SMA connectors (50Ω impedanc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irect access to all of the signals on the daughterboard interfa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79080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4276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Basic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2 MHz to 300+ M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379260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signed for use with external RF frontends as an intermediate frequency (IF) interfa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DC inputs are directly transformer-coupled to SMA connectors (50Ω impedance)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irect access to all of the signals on the daughterboard interfa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79080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LFT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DC-30 MHz Transmitt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379260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very similar to the BasicTX and BasicRX, respectively, with 2 main differen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Use differential amplifiers instead of transformers, their frequency response extends down to D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have 30 MHz low pass filters for antialias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379080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LF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DC-30 M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3792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very similar to the BasicTX and BasicRX, respectively, with 2 main differen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Use differential amplifiers instead of transformers, their frequency response extends down to D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have 30 MHz low pass filters for antialias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4360" y="25920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TV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50 MHz to 870 M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46120" y="1626840"/>
            <a:ext cx="393048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 complete VHF and UHF receiver system based on a TV tuner modu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can receive a 6 MHz wide block of spectrum from anywhere in the 50-860 MHz rang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ll tuning and AGC functions can be controlled from softwa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" y="6172200"/>
            <a:ext cx="77724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5943600"/>
            <a:ext cx="86868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41240" indent="-284040">
              <a:lnSpc>
                <a:spcPct val="11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: The TVRX is the only daughterboard which is NOT MIMO capable. A MIMO capable version is expected in Q1 2007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791160" cy="23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DBS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800 MHz to 2.4 G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76280" y="1771560"/>
            <a:ext cx="423216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 complete receiver system for 800 MHz to 2.4 GHz with a 3-5 dB noise figu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features a software controllable channel filter as narrow as 1 MHz, or as wide as 60 MHz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IMO capable, and can power an active antenna via the coax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6172200"/>
            <a:ext cx="7772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te: The DBSRX is NOT guaranteed to cover the 2.4-2.48 GHz ISM band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79080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400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400-500 M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489600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100+mW output (20dB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ideal for UHF TV, public safety and land-mobile communications, low-power unlicensed devices (like key-fobs), wireless sensor networks (motes), and amateur radi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inor modifications to the board can move the frequency range to anywhere from 200 MHz to 8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5745240" y="1905120"/>
            <a:ext cx="24080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486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Why GNU Radio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Almost free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All the software are free (Python and C++ source code/linux environment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In most condition, no need expensive RF test machine!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No need to purchase development and emulation tool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Only a development board needed (Universal Software Radio Peripheral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Flexibl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Software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reconfigurable for many other modulation methods for both standardize radio or self-defined radi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it is possible to improve the quality of the received signal by utilizing, in software, certain mathematical algorithm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Hardware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</a:rPr>
              <a:t>Rx and Tx are selectable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</a:rPr>
              <a:t>Intermediate frequency is controllable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Best choice for research use and radio amateu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900</a:t>
            </a:r>
            <a:br>
              <a:rPr sz="4400"/>
            </a:b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800-1000M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200+mW output (23dB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ith a 902-928 MHz ISM-band filter installed for filtering strong out-of-band signals (like pagers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The filter can easily be bypassed to allow usage over the full frequency range, enabling use with cellular, paging, motes, and two-way radio, in addition to the ISM ba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61880"/>
            <a:ext cx="7770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1200</a:t>
            </a:r>
            <a:br>
              <a:rPr sz="4400"/>
            </a:b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1150 MHz - 1450 M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55280" y="2420640"/>
            <a:ext cx="403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200+mW output (23dB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Coverage of navigation, satellite, and amateur band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487600" cy="43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1800</a:t>
            </a:r>
            <a:br>
              <a:rPr sz="4400"/>
            </a:b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1.5-2.1 G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45760" y="2203560"/>
            <a:ext cx="7924680" cy="14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100+mW output (20dB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Coverage of DECT, US-DECT, and PCS (including unlicensed) frequenci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000" y="403560"/>
            <a:ext cx="7770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2400</a:t>
            </a:r>
            <a:br>
              <a:rPr sz="28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2.3-2.9 G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4032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50mW output (17dB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ith a bandpass filter around the ISM band (2400-2483 MHz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The filter can be easily bypassed, allowing for coverage of the full frequency rang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271296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11920" y="2319480"/>
            <a:ext cx="1036800" cy="72864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971800" y="2286000"/>
            <a:ext cx="116208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JPE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Encod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590920" y="2725560"/>
            <a:ext cx="2746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267080" y="2725560"/>
            <a:ext cx="2746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2133720"/>
            <a:ext cx="156996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Modul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2209680"/>
            <a:ext cx="1523880" cy="990720"/>
          </a:xfrm>
          <a:prstGeom prst="can">
            <a:avLst>
              <a:gd name="adj" fmla="val 25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ard Dis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354720" y="2743200"/>
            <a:ext cx="2746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11920" y="5214960"/>
            <a:ext cx="1036800" cy="72864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66880" y="5029200"/>
            <a:ext cx="1524240" cy="990720"/>
          </a:xfrm>
          <a:prstGeom prst="can">
            <a:avLst>
              <a:gd name="adj" fmla="val 25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ard Dis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370200" y="5638680"/>
            <a:ext cx="2588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315200" y="3276720"/>
            <a:ext cx="0" cy="16761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4266720" y="5638680"/>
            <a:ext cx="2588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5105520"/>
            <a:ext cx="156996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Demodul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o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43000" y="1219320"/>
            <a:ext cx="10666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a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1600200"/>
            <a:ext cx="6094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43000" y="4038480"/>
            <a:ext cx="114300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a"/>
                </a:solidFill>
                <a:latin typeface="Arial"/>
              </a:rPr>
              <a:t>Demodulatio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361960" y="4419720"/>
            <a:ext cx="6858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1600200"/>
            <a:ext cx="6094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380520" y="4419720"/>
            <a:ext cx="6858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28600" y="2133720"/>
            <a:ext cx="8686800" cy="1523880"/>
            <a:chOff x="228600" y="2133720"/>
            <a:chExt cx="8686800" cy="1523880"/>
          </a:xfrm>
        </p:grpSpPr>
        <p:sp>
          <p:nvSpPr>
            <p:cNvPr id="522" name=""/>
            <p:cNvSpPr/>
            <p:nvPr/>
          </p:nvSpPr>
          <p:spPr>
            <a:xfrm>
              <a:off x="1143000" y="2514600"/>
              <a:ext cx="1162080" cy="76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Bit to Byt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438280" y="295416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43400" y="297180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19520" y="2438280"/>
              <a:ext cx="144756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Gray cod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En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02440" y="297180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78200" y="243828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ifferential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En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29400" y="243828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Real to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458200" y="2971800"/>
              <a:ext cx="457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8600" y="2971800"/>
              <a:ext cx="5335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120" y="2133720"/>
              <a:ext cx="7696080" cy="1523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228600" y="4876920"/>
            <a:ext cx="8838720" cy="1523880"/>
            <a:chOff x="228600" y="4876920"/>
            <a:chExt cx="8838720" cy="1523880"/>
          </a:xfrm>
        </p:grpSpPr>
        <p:sp>
          <p:nvSpPr>
            <p:cNvPr id="533" name=""/>
            <p:cNvSpPr/>
            <p:nvPr/>
          </p:nvSpPr>
          <p:spPr>
            <a:xfrm>
              <a:off x="1066680" y="5181480"/>
              <a:ext cx="1162080" cy="76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Byte to Bit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743200" y="510552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Gray cod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e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02240" y="5105520"/>
              <a:ext cx="144756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ifferential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e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3080" y="510552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Real to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6095520" y="5562720"/>
              <a:ext cx="3049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4191120" y="5562720"/>
              <a:ext cx="3045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2362320" y="5562720"/>
              <a:ext cx="3045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228600" y="5562720"/>
              <a:ext cx="5335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8534160" y="5562720"/>
              <a:ext cx="5331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2120" y="4876920"/>
              <a:ext cx="7696080" cy="1523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576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urrent iss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4000" y="1982520"/>
            <a:ext cx="7777080" cy="27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Need a USRP + Microtune 4937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Need a python 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 long way to be commercial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High performance CPU requi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The software is still under develop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is next?</a:t>
            </a:r>
            <a:br>
              <a:rPr sz="40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--possible applications and issu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lock recovery block doesn’t work in the DBPSK mod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d more functions, such as DQPSK, FSK… into our dem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 may test the transmission by actual wireless connection, since receiver doesn’t ensure correct demodulation, for example, carrier tracking, clock recovery, we may need to add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yclic redundancy check (CRC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transmission control (ARQ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d on what we have done, we may deploy a research-oriented project nex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760" y="5281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lnSpc>
                <a:spcPct val="116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Extensive knowledge involved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oftware and environment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Python/Numeric python library/wxPyth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C++/boost C++ librat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Linux environment and lots of support packages: FFTW/cppunit/SWIG/SDCC/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GNU Radio architectu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Communications and RF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DS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Digital communic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Wireless communications the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FPGA and Assemble language may be us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528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at is implemented current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77724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Base Syst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vides the runtime and various signal processing primitive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Hardware Suppo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niversal Software Radio Peripheral (USRP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Audio Device Suppo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ALSA (Advanced Linux Sound Architecture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OSS (Open Sound System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Graphics Suppo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wxPython based GU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DL video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General Signal Process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pecialty Application Are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munication related implem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M demod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ential BPSK / QPS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MSK modulation / demod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rrow band FM transmitter / receiv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de band FM transmitter &amp; broadcast FM receiv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GNU radio ut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RC gen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Socket setup (TCP / UDP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ompute frequency response of a digital fil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ontrol National IMX2306 &amp; SDR-1000 frequency synthesiz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Some util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Convert unsigned mask into signed integ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Gcd, Lcm, Log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Return input ‘x’ that is reverse or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GUI examp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Provide window application for different usa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FT sink t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wxPython EditBox, Sli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Draw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Waterfall sink t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Oscilloscope Test Appli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pag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reate USRP source object supplying complex floa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lex pager protocol demodulation blo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ess</cp:lastModifiedBy>
  <dcterms:modified xsi:type="dcterms:W3CDTF">2006-12-09T21:34:2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