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4A59-09CF-4B51-8136-EABA09D9BCBF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FC25-FE83-4DC7-A9A7-BF908A2B7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853-64E4-4359-87DC-7427148D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9857-26B2-4B7C-B0AE-28A88EBA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C88-B443-4EF9-8D3C-2FFE65E1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06D0-E68D-40B1-A0FB-3478C31C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BD7D4-5803-45EE-8735-61C90AE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53B-8A66-4DC7-BA51-57B79EDF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A26FE-F5E0-41C6-81CA-D23AC4CF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9C84-D792-4AD4-A117-4C519F8D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251B-FA54-4A99-9ECF-89F51FA9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74E9-626A-4AC5-A6EE-6A231C1B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9516-CAF6-4019-BC48-BAB6D410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E023-7130-47D1-AFFD-F3C87804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16B1B-9CFB-4E5B-9658-A9A4EE90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D029-1C98-47D2-99CF-5402EE2F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89D-1E3B-4273-9E5F-9B421673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8ABD-C7D6-4EBE-A557-565FC2D34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510-4614-433E-8D3E-5F48FD33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DAA-82F2-400C-872A-637F3D4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D79-A28F-4819-B747-A0658B7B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2A0-E5A2-45E3-B641-A734F1B0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3C2E-7FAA-42CF-B576-522F9FD5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2B2C-7254-4C66-904F-40568E0C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D100-258A-4926-8B4D-DD6C8BD8A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9B03-0181-4D39-AB54-8A1A1F832A95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6858-3053-41FA-853C-638D5C33B931}" type="slidenum">
              <a:rPr b="0" lang="zh-TW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331000"/>
            <a:ext cx="822636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ccecff"/>
                </a:solidFill>
                <a:latin typeface="Arial"/>
              </a:rPr>
              <a:t>GNU Radi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971640" y="3885840"/>
            <a:ext cx="7129440" cy="15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Zhife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eaeaea"/>
                </a:solidFill>
                <a:latin typeface="Arial"/>
              </a:rPr>
              <a:t>Chen Ke-Y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Electrical and Computer Engineer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Arial"/>
              </a:rPr>
              <a:t>University of Flori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overall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8400960" cy="2909880"/>
          </a:xfrm>
          <a:prstGeom prst="rect">
            <a:avLst/>
          </a:prstGeom>
          <a:ln w="0">
            <a:noFill/>
          </a:ln>
        </p:spPr>
      </p:pic>
      <p:grpSp>
        <p:nvGrpSpPr>
          <p:cNvPr id="239" name=""/>
          <p:cNvGrpSpPr/>
          <p:nvPr/>
        </p:nvGrpSpPr>
        <p:grpSpPr>
          <a:xfrm>
            <a:off x="468360" y="2205000"/>
            <a:ext cx="1800000" cy="3168720"/>
            <a:chOff x="468360" y="2205000"/>
            <a:chExt cx="1800000" cy="3168720"/>
          </a:xfrm>
        </p:grpSpPr>
        <p:sp>
          <p:nvSpPr>
            <p:cNvPr id="240" name=""/>
            <p:cNvSpPr/>
            <p:nvPr/>
          </p:nvSpPr>
          <p:spPr>
            <a:xfrm>
              <a:off x="468360" y="2205000"/>
              <a:ext cx="1800000" cy="2736720"/>
            </a:xfrm>
            <a:prstGeom prst="rect">
              <a:avLst/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5640" y="501336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Soft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2484360" y="3284640"/>
            <a:ext cx="1366920" cy="1152360"/>
            <a:chOff x="2484360" y="3284640"/>
            <a:chExt cx="1366920" cy="1152360"/>
          </a:xfrm>
        </p:grpSpPr>
        <p:sp>
          <p:nvSpPr>
            <p:cNvPr id="243" name=""/>
            <p:cNvSpPr/>
            <p:nvPr/>
          </p:nvSpPr>
          <p:spPr>
            <a:xfrm>
              <a:off x="2484360" y="3284640"/>
              <a:ext cx="1366920" cy="720720"/>
            </a:xfrm>
            <a:prstGeom prst="rect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56000" y="4076640"/>
              <a:ext cx="1224000" cy="36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ecff"/>
                  </a:solidFill>
                  <a:latin typeface="Arial"/>
                </a:rPr>
                <a:t>Hardwar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48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51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457200" y="170172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228600" y="4495680"/>
            <a:ext cx="1512720" cy="1441080"/>
            <a:chOff x="228600" y="4495680"/>
            <a:chExt cx="1512720" cy="1441080"/>
          </a:xfrm>
        </p:grpSpPr>
        <p:sp>
          <p:nvSpPr>
            <p:cNvPr id="258" name=""/>
            <p:cNvSpPr/>
            <p:nvPr/>
          </p:nvSpPr>
          <p:spPr>
            <a:xfrm>
              <a:off x="286200" y="4856040"/>
              <a:ext cx="1455120" cy="108072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User-define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4495680"/>
              <a:ext cx="1512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aeaea"/>
                  </a:solidFill>
                  <a:latin typeface="Arial"/>
                </a:rPr>
                <a:t>Receiver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77920" y="209556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26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1835280" y="5075280"/>
            <a:ext cx="7129440" cy="792000"/>
            <a:chOff x="1835280" y="5075280"/>
            <a:chExt cx="7129440" cy="792000"/>
          </a:xfrm>
        </p:grpSpPr>
        <p:sp>
          <p:nvSpPr>
            <p:cNvPr id="265" name=""/>
            <p:cNvSpPr/>
            <p:nvPr/>
          </p:nvSpPr>
          <p:spPr>
            <a:xfrm flipH="1">
              <a:off x="7416720" y="5437080"/>
              <a:ext cx="5032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8101080" y="5076720"/>
              <a:ext cx="863640" cy="360000"/>
              <a:chOff x="8101080" y="5076720"/>
              <a:chExt cx="863640" cy="360000"/>
            </a:xfrm>
          </p:grpSpPr>
          <p:sp>
            <p:nvSpPr>
              <p:cNvPr id="267" name=""/>
              <p:cNvSpPr/>
              <p:nvPr/>
            </p:nvSpPr>
            <p:spPr>
              <a:xfrm>
                <a:off x="8101080" y="5436720"/>
                <a:ext cx="647640" cy="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8748720" y="5076720"/>
                <a:ext cx="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8532720" y="5076720"/>
                <a:ext cx="21564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8748720" y="5076720"/>
                <a:ext cx="216000" cy="360000"/>
              </a:xfrm>
              <a:prstGeom prst="line">
                <a:avLst/>
              </a:prstGeom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1" name=""/>
            <p:cNvGrpSpPr/>
            <p:nvPr/>
          </p:nvGrpSpPr>
          <p:grpSpPr>
            <a:xfrm>
              <a:off x="3995280" y="5148000"/>
              <a:ext cx="1368360" cy="576000"/>
              <a:chOff x="3995280" y="5148000"/>
              <a:chExt cx="1368360" cy="576000"/>
            </a:xfrm>
          </p:grpSpPr>
          <p:sp>
            <p:nvSpPr>
              <p:cNvPr id="272" name=""/>
              <p:cNvSpPr/>
              <p:nvPr/>
            </p:nvSpPr>
            <p:spPr>
              <a:xfrm>
                <a:off x="4530960" y="5148000"/>
                <a:ext cx="83268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ADC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995280" y="5410080"/>
                <a:ext cx="41580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5435640" y="5075280"/>
              <a:ext cx="1873080" cy="792000"/>
              <a:chOff x="5435640" y="5075280"/>
              <a:chExt cx="1873080" cy="792000"/>
            </a:xfrm>
          </p:grpSpPr>
          <p:sp>
            <p:nvSpPr>
              <p:cNvPr id="275" name=""/>
              <p:cNvSpPr/>
              <p:nvPr/>
            </p:nvSpPr>
            <p:spPr>
              <a:xfrm>
                <a:off x="6084720" y="5075280"/>
                <a:ext cx="1224000" cy="792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RF 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Front end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5435640" y="5435640"/>
                <a:ext cx="50328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 flipH="1">
              <a:off x="2844360" y="5437080"/>
              <a:ext cx="289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203640" y="5148000"/>
              <a:ext cx="72072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1835280" y="5148000"/>
              <a:ext cx="934920" cy="576000"/>
              <a:chOff x="1835280" y="5148000"/>
              <a:chExt cx="934920" cy="576000"/>
            </a:xfrm>
          </p:grpSpPr>
          <p:sp>
            <p:nvSpPr>
              <p:cNvPr id="280" name=""/>
              <p:cNvSpPr/>
              <p:nvPr/>
            </p:nvSpPr>
            <p:spPr>
              <a:xfrm flipH="1">
                <a:off x="1835280" y="5436720"/>
                <a:ext cx="288720" cy="0"/>
              </a:xfrm>
              <a:prstGeom prst="line">
                <a:avLst/>
              </a:prstGeom>
              <a:ln w="38160">
                <a:solidFill>
                  <a:srgbClr val="eaeaea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2195640" y="5148000"/>
                <a:ext cx="574560" cy="576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54547a"/>
                    </a:solidFill>
                    <a:latin typeface="Arial"/>
                  </a:rPr>
                  <a:t>USB</a:t>
                </a: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283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286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3352680"/>
            <a:ext cx="2514600" cy="381240"/>
          </a:xfrm>
          <a:prstGeom prst="rect">
            <a:avLst/>
          </a:prstGeom>
          <a:solidFill>
            <a:srgbClr val="99cc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RP (mother board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19320" y="3352680"/>
            <a:ext cx="533160" cy="38124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294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297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03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06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09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247968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057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USB2.0/At this stage, USB 1.x is not supported at a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upport 32MB/sec 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samples sent over the USB interface are in 16-bit signed integers in IQ format,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16-bit I and 16-bit Q data (complex), resulting in 8M complex samples/sec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cross the USB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17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20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26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29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32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505320" y="313524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3657240"/>
            <a:ext cx="7924680" cy="289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cludes digital down converters (DDC) implemented with cascaded integrator-comb (CIC) filte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eaeaea"/>
                </a:solidFill>
                <a:latin typeface="Arial"/>
              </a:rPr>
              <a:t>DD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own converts the signal from the IF band to the base ba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295280" indent="-3808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ecimates the signal so that the data rate can be adapted by the USB 2.0 and is reasonable for the computers' computing capabi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Digital up converters (DUCs) on the transmit side are actually contained in the AD9862 CODEC chips, not in the FPGA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The only transmit signal processing blocks in the FPGA are the interpolators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40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43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49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52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55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5029200" y="3124080"/>
            <a:ext cx="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3657600"/>
            <a:ext cx="7925040" cy="1295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4-bit DA converters, DAC clock frequency is 128 MS/s </a:t>
            </a:r>
            <a:br>
              <a:rPr sz="1600"/>
            </a:b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(stay below about 50MHz or so to make filtering easier.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4 high-speed 12-bit AD converters, sampling rate is 64M samples per second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zh-TW" sz="2400" spc="-1" strike="noStrike">
                <a:solidFill>
                  <a:srgbClr val="ccecff"/>
                </a:solidFill>
                <a:latin typeface="Arial"/>
              </a:rPr>
              <a:t>– Hard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22200" y="213192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5508720" y="2347920"/>
            <a:ext cx="1800000" cy="792000"/>
            <a:chOff x="5508720" y="2347920"/>
            <a:chExt cx="1800000" cy="792000"/>
          </a:xfrm>
        </p:grpSpPr>
        <p:sp>
          <p:nvSpPr>
            <p:cNvPr id="363" name=""/>
            <p:cNvSpPr/>
            <p:nvPr/>
          </p:nvSpPr>
          <p:spPr>
            <a:xfrm>
              <a:off x="6084720" y="234792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508720" y="270828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7381800" y="2349000"/>
            <a:ext cx="1617840" cy="359280"/>
            <a:chOff x="7381800" y="2349000"/>
            <a:chExt cx="1617840" cy="359280"/>
          </a:xfrm>
        </p:grpSpPr>
        <p:sp>
          <p:nvSpPr>
            <p:cNvPr id="366" name=""/>
            <p:cNvSpPr/>
            <p:nvPr/>
          </p:nvSpPr>
          <p:spPr>
            <a:xfrm>
              <a:off x="7381800" y="270828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01080" y="270828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8748720" y="2349000"/>
              <a:ext cx="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8531280" y="2349000"/>
              <a:ext cx="21744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8748720" y="2349000"/>
              <a:ext cx="250920" cy="3589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3995640" y="2419200"/>
            <a:ext cx="1439640" cy="576360"/>
            <a:chOff x="3995640" y="2419200"/>
            <a:chExt cx="1439640" cy="576360"/>
          </a:xfrm>
        </p:grpSpPr>
        <p:sp>
          <p:nvSpPr>
            <p:cNvPr id="372" name=""/>
            <p:cNvSpPr/>
            <p:nvPr/>
          </p:nvSpPr>
          <p:spPr>
            <a:xfrm>
              <a:off x="3995640" y="268128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59040" y="2419200"/>
              <a:ext cx="87624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1835280" y="2421000"/>
            <a:ext cx="936360" cy="576360"/>
            <a:chOff x="1835280" y="2421000"/>
            <a:chExt cx="936360" cy="576360"/>
          </a:xfrm>
        </p:grpSpPr>
        <p:sp>
          <p:nvSpPr>
            <p:cNvPr id="375" name=""/>
            <p:cNvSpPr/>
            <p:nvPr/>
          </p:nvSpPr>
          <p:spPr>
            <a:xfrm>
              <a:off x="2197080" y="242100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35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2843280" y="2421000"/>
            <a:ext cx="1081080" cy="576360"/>
            <a:chOff x="2843280" y="2421000"/>
            <a:chExt cx="1081080" cy="576360"/>
          </a:xfrm>
        </p:grpSpPr>
        <p:sp>
          <p:nvSpPr>
            <p:cNvPr id="378" name=""/>
            <p:cNvSpPr/>
            <p:nvPr/>
          </p:nvSpPr>
          <p:spPr>
            <a:xfrm>
              <a:off x="2843280" y="270828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03640" y="242100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6705720" y="3200400"/>
            <a:ext cx="1440" cy="446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480" y="3733560"/>
            <a:ext cx="792504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e mother board support  up to four daughter boards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2. Several kinds of daughter boards availabl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995480" y="2085840"/>
            <a:ext cx="3641760" cy="1152720"/>
          </a:xfrm>
          <a:prstGeom prst="rect">
            <a:avLst/>
          </a:prstGeom>
          <a:noFill/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3581280"/>
            <a:ext cx="822636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NU radio has provided some useful AP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 are interested in at this time is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how to use the existing module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that has been provided  in GNU radio project 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to communicate between two end system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2200" y="1725480"/>
            <a:ext cx="1441440" cy="1081080"/>
          </a:xfrm>
          <a:prstGeom prst="rect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User-defined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5508720" y="1941480"/>
            <a:ext cx="1800000" cy="792000"/>
            <a:chOff x="5508720" y="1941480"/>
            <a:chExt cx="1800000" cy="792000"/>
          </a:xfrm>
        </p:grpSpPr>
        <p:sp>
          <p:nvSpPr>
            <p:cNvPr id="387" name=""/>
            <p:cNvSpPr/>
            <p:nvPr/>
          </p:nvSpPr>
          <p:spPr>
            <a:xfrm>
              <a:off x="6084720" y="1941480"/>
              <a:ext cx="1224000" cy="792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RF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ront end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08720" y="2301840"/>
              <a:ext cx="5047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81800" y="1943280"/>
            <a:ext cx="1617840" cy="358560"/>
            <a:chOff x="7381800" y="1943280"/>
            <a:chExt cx="1617840" cy="358560"/>
          </a:xfrm>
        </p:grpSpPr>
        <p:sp>
          <p:nvSpPr>
            <p:cNvPr id="390" name=""/>
            <p:cNvSpPr/>
            <p:nvPr/>
          </p:nvSpPr>
          <p:spPr>
            <a:xfrm>
              <a:off x="7381800" y="2301840"/>
              <a:ext cx="5050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101080" y="2301840"/>
              <a:ext cx="6476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8748720" y="1943280"/>
              <a:ext cx="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flipV="1">
              <a:off x="8531280" y="1943280"/>
              <a:ext cx="21744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8748720" y="1943280"/>
              <a:ext cx="250920" cy="358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57200" y="1295280"/>
            <a:ext cx="11206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7920" y="1689120"/>
            <a:ext cx="1512720" cy="1152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995640" y="2013120"/>
            <a:ext cx="1439640" cy="576000"/>
            <a:chOff x="3995640" y="2013120"/>
            <a:chExt cx="1439640" cy="576000"/>
          </a:xfrm>
        </p:grpSpPr>
        <p:sp>
          <p:nvSpPr>
            <p:cNvPr id="398" name=""/>
            <p:cNvSpPr/>
            <p:nvPr/>
          </p:nvSpPr>
          <p:spPr>
            <a:xfrm>
              <a:off x="3995640" y="2275200"/>
              <a:ext cx="439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559040" y="2013120"/>
              <a:ext cx="876240" cy="576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DAC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1835280" y="2014560"/>
            <a:ext cx="936360" cy="576360"/>
            <a:chOff x="1835280" y="2014560"/>
            <a:chExt cx="936360" cy="576360"/>
          </a:xfrm>
        </p:grpSpPr>
        <p:sp>
          <p:nvSpPr>
            <p:cNvPr id="401" name=""/>
            <p:cNvSpPr/>
            <p:nvPr/>
          </p:nvSpPr>
          <p:spPr>
            <a:xfrm>
              <a:off x="2197080" y="2014560"/>
              <a:ext cx="57456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USB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35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2843280" y="2014560"/>
            <a:ext cx="1081080" cy="576360"/>
            <a:chOff x="2843280" y="2014560"/>
            <a:chExt cx="1081080" cy="576360"/>
          </a:xfrm>
        </p:grpSpPr>
        <p:sp>
          <p:nvSpPr>
            <p:cNvPr id="404" name=""/>
            <p:cNvSpPr/>
            <p:nvPr/>
          </p:nvSpPr>
          <p:spPr>
            <a:xfrm>
              <a:off x="2843280" y="230184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203640" y="2014560"/>
              <a:ext cx="720720" cy="5763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4547a"/>
                  </a:solidFill>
                  <a:latin typeface="Arial"/>
                </a:rPr>
                <a:t>FPGA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219320" y="2971800"/>
            <a:ext cx="533160" cy="380880"/>
          </a:xfrm>
          <a:prstGeom prst="rect">
            <a:avLst/>
          </a:prstGeom>
          <a:solidFill>
            <a:srgbClr val="ff66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2666880"/>
            <a:ext cx="762120" cy="914400"/>
          </a:xfrm>
          <a:prstGeom prst="line">
            <a:avLst/>
          </a:prstGeom>
          <a:ln w="38160">
            <a:solidFill>
              <a:srgbClr val="ff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w these modules co-work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++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yth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cc66"/>
                </a:solidFill>
                <a:uFillTx/>
                <a:latin typeface="Arial"/>
              </a:rPr>
              <a:t>Glu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to connect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Non performance-critical modul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e </a:t>
            </a: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– Softwar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44956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t python level, what we need to do is always just to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Arial"/>
              </a:rPr>
              <a:t>draw a diagram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showing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the signal flow from the source to the sink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in our mi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03280" y="191628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28720" y="3139920"/>
            <a:ext cx="433440" cy="43344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403280" y="1557360"/>
            <a:ext cx="50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26920" y="2708280"/>
            <a:ext cx="505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411280" y="220500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411280" y="2637000"/>
            <a:ext cx="433440" cy="433080"/>
          </a:xfrm>
          <a:prstGeom prst="ellipse">
            <a:avLst/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C++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708360" y="2133720"/>
            <a:ext cx="1440000" cy="1152360"/>
          </a:xfrm>
          <a:prstGeom prst="rightArrow">
            <a:avLst>
              <a:gd name="adj1" fmla="val 50000"/>
              <a:gd name="adj2" fmla="val 31240"/>
            </a:avLst>
          </a:prstGeom>
          <a:solidFill>
            <a:srgbClr val="ffff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724360" y="1628640"/>
            <a:ext cx="2089440" cy="2016360"/>
            <a:chOff x="5724360" y="1628640"/>
            <a:chExt cx="2089440" cy="2016360"/>
          </a:xfrm>
        </p:grpSpPr>
        <p:sp>
          <p:nvSpPr>
            <p:cNvPr id="420" name=""/>
            <p:cNvSpPr/>
            <p:nvPr/>
          </p:nvSpPr>
          <p:spPr>
            <a:xfrm>
              <a:off x="6300720" y="1987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726160" y="321156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300720" y="1628640"/>
              <a:ext cx="5047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24360" y="2779560"/>
              <a:ext cx="50508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308720" y="2276640"/>
              <a:ext cx="5050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308720" y="2708280"/>
              <a:ext cx="433440" cy="433440"/>
            </a:xfrm>
            <a:prstGeom prst="ellipse">
              <a:avLst/>
            </a:prstGeom>
            <a:solidFill>
              <a:srgbClr val="00cc66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++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6732720" y="2276640"/>
            <a:ext cx="647640" cy="50472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6013440" y="2492280"/>
            <a:ext cx="430200" cy="649440"/>
          </a:xfrm>
          <a:prstGeom prst="line">
            <a:avLst/>
          </a:prstGeom>
          <a:ln w="38160">
            <a:solidFill>
              <a:srgbClr val="eaeaea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292720" y="1628640"/>
            <a:ext cx="2735280" cy="2232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7280" y="3284640"/>
            <a:ext cx="1657080" cy="358560"/>
            <a:chOff x="4067280" y="3284640"/>
            <a:chExt cx="1657080" cy="358560"/>
          </a:xfrm>
        </p:grpSpPr>
        <p:sp>
          <p:nvSpPr>
            <p:cNvPr id="430" name=""/>
            <p:cNvSpPr/>
            <p:nvPr/>
          </p:nvSpPr>
          <p:spPr>
            <a:xfrm>
              <a:off x="4067280" y="3284640"/>
              <a:ext cx="107928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ource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76720" y="3500280"/>
              <a:ext cx="64764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812000" y="2781360"/>
            <a:ext cx="1224000" cy="288720"/>
            <a:chOff x="7812000" y="2781360"/>
            <a:chExt cx="1224000" cy="288720"/>
          </a:xfrm>
        </p:grpSpPr>
        <p:sp>
          <p:nvSpPr>
            <p:cNvPr id="433" name=""/>
            <p:cNvSpPr/>
            <p:nvPr/>
          </p:nvSpPr>
          <p:spPr>
            <a:xfrm>
              <a:off x="7812000" y="2924280"/>
              <a:ext cx="5763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88360" y="2781360"/>
              <a:ext cx="6476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ecff"/>
                  </a:solidFill>
                  <a:latin typeface="Arial"/>
                </a:rPr>
                <a:t>Sink</a:t>
              </a:r>
              <a:endParaRPr b="0" lang="en-US" sz="2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SPE (Stani’s Python Edit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re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Lack of powerful debug tool (breakpoint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007400" cy="437832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900000" y="3141720"/>
            <a:ext cx="1584360" cy="2303280"/>
            <a:chOff x="900000" y="3141720"/>
            <a:chExt cx="1584360" cy="2303280"/>
          </a:xfrm>
        </p:grpSpPr>
        <p:sp>
          <p:nvSpPr>
            <p:cNvPr id="439" name=""/>
            <p:cNvSpPr/>
            <p:nvPr/>
          </p:nvSpPr>
          <p:spPr>
            <a:xfrm>
              <a:off x="900000" y="3141720"/>
              <a:ext cx="158436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16000" y="393372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43280" y="3141720"/>
            <a:ext cx="4897440" cy="2303280"/>
            <a:chOff x="2843280" y="3141720"/>
            <a:chExt cx="4897440" cy="2303280"/>
          </a:xfrm>
        </p:grpSpPr>
        <p:sp>
          <p:nvSpPr>
            <p:cNvPr id="442" name=""/>
            <p:cNvSpPr/>
            <p:nvPr/>
          </p:nvSpPr>
          <p:spPr>
            <a:xfrm>
              <a:off x="2843280" y="3141720"/>
              <a:ext cx="4897440" cy="2303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940360" y="4508640"/>
              <a:ext cx="122400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900000" y="5661000"/>
            <a:ext cx="6767640" cy="647640"/>
            <a:chOff x="900000" y="5661000"/>
            <a:chExt cx="6767640" cy="647640"/>
          </a:xfrm>
        </p:grpSpPr>
        <p:sp>
          <p:nvSpPr>
            <p:cNvPr id="445" name=""/>
            <p:cNvSpPr/>
            <p:nvPr/>
          </p:nvSpPr>
          <p:spPr>
            <a:xfrm>
              <a:off x="900000" y="5661000"/>
              <a:ext cx="6767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11640" y="5734080"/>
              <a:ext cx="331308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 &amp; debug window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11280" y="1483920"/>
            <a:ext cx="7772400" cy="509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y GNU Radio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Extensive knowledge involv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implemented currentl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environ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Development Board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Current Issu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What is next?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Development environment (cont.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Wingwa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More powerfu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or personal version, the license fee to two stations are $6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274160" cy="4500720"/>
          </a:xfrm>
          <a:prstGeom prst="rect">
            <a:avLst/>
          </a:prstGeom>
          <a:ln w="0">
            <a:noFill/>
          </a:ln>
        </p:spPr>
      </p:pic>
      <p:grpSp>
        <p:nvGrpSpPr>
          <p:cNvPr id="450" name=""/>
          <p:cNvGrpSpPr/>
          <p:nvPr/>
        </p:nvGrpSpPr>
        <p:grpSpPr>
          <a:xfrm>
            <a:off x="900000" y="3284640"/>
            <a:ext cx="5184720" cy="1873080"/>
            <a:chOff x="900000" y="3284640"/>
            <a:chExt cx="5184720" cy="1873080"/>
          </a:xfrm>
        </p:grpSpPr>
        <p:sp>
          <p:nvSpPr>
            <p:cNvPr id="451" name=""/>
            <p:cNvSpPr/>
            <p:nvPr/>
          </p:nvSpPr>
          <p:spPr>
            <a:xfrm>
              <a:off x="900000" y="3284640"/>
              <a:ext cx="5184720" cy="18730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70560" y="3500280"/>
              <a:ext cx="1296720" cy="4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 edito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3564000" y="5589720"/>
            <a:ext cx="2663640" cy="718920"/>
            <a:chOff x="3564000" y="5589720"/>
            <a:chExt cx="2663640" cy="718920"/>
          </a:xfrm>
        </p:grpSpPr>
        <p:sp>
          <p:nvSpPr>
            <p:cNvPr id="454" name=""/>
            <p:cNvSpPr/>
            <p:nvPr/>
          </p:nvSpPr>
          <p:spPr>
            <a:xfrm>
              <a:off x="3564000" y="5589720"/>
              <a:ext cx="2663640" cy="647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59280" y="5805360"/>
              <a:ext cx="1305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pret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6443640" y="2997360"/>
            <a:ext cx="1584360" cy="3384000"/>
            <a:chOff x="6443640" y="2997360"/>
            <a:chExt cx="1584360" cy="3384000"/>
          </a:xfrm>
        </p:grpSpPr>
        <p:sp>
          <p:nvSpPr>
            <p:cNvPr id="457" name=""/>
            <p:cNvSpPr/>
            <p:nvPr/>
          </p:nvSpPr>
          <p:spPr>
            <a:xfrm>
              <a:off x="6443640" y="2997360"/>
              <a:ext cx="1584360" cy="3384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59640" y="4160880"/>
              <a:ext cx="1224000" cy="73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plorer of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ject and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ass members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826920" y="5373720"/>
            <a:ext cx="2665440" cy="1150920"/>
            <a:chOff x="826920" y="5373720"/>
            <a:chExt cx="2665440" cy="1150920"/>
          </a:xfrm>
        </p:grpSpPr>
        <p:sp>
          <p:nvSpPr>
            <p:cNvPr id="460" name=""/>
            <p:cNvSpPr/>
            <p:nvPr/>
          </p:nvSpPr>
          <p:spPr>
            <a:xfrm>
              <a:off x="826920" y="5373720"/>
              <a:ext cx="2665440" cy="1150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7640" y="5877000"/>
              <a:ext cx="1224000" cy="50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bug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Development Board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911160" y="1606680"/>
          <a:ext cx="7391520" cy="4746600"/>
        </p:xfrm>
        <a:graphic>
          <a:graphicData uri="http://schemas.openxmlformats.org/drawingml/2006/table">
            <a:tbl>
              <a:tblPr/>
              <a:tblGrid>
                <a:gridCol w="6126120"/>
                <a:gridCol w="1265400"/>
              </a:tblGrid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Verdana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USRP Motherboar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TX -- 2 MHz to 20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BasicRX -- 2 MHz to 300+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TX -- DC-30 MHz Transmitt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LFRX -- DC-3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TVRX -- 50 MHz to 870 M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0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DBSRX -- 800 MHz to 2.4 GHz Re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150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400 -- 400-50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900 -- 800-1000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200 -- 1150 MHz - 1450 M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1800 -- 1.5-2.1 GHz Transceiver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RFX2400 -- 2.3-2.9 GHz Transceiver, 20+mW output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eaeaea"/>
                          </a:solidFill>
                          <a:latin typeface="Arial"/>
                          <a:ea typeface="Arial"/>
                        </a:rPr>
                        <a:t>$275.00 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77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USRP Motherboard</a:t>
            </a: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3196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64 MS/s 12-bit analog to digital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128 MS/s 14-bit digital to analog Converter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our digital downconverters with programmable decim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Two digital upconverters with programmable interpolation rate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High-speed USB 2.0 interface (480 Mb/s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Capable of processing signals up to 16 MHz wide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odular architecture supports wide variety of RF daughterboard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uxiliary analog and digital I/O support complex radio controls such as RSSI and AGC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Fully coherent multi-channel systems (MIMO capable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743280" cy="367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20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37922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AC outputs are directly transformer-coupled to SMA connectors (50Ω impedanc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5029200" y="1905120"/>
            <a:ext cx="379080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4360" y="4276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Basic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2 MHz to 300+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esigned for use with external RF frontends as an intermediate frequency (IF) interfac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DC inputs are directly transformer-coupled to SMA connectors (50Ω impedance)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direct access to all of the signals on the daughterboard interfa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33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T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Transmitt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3790800" cy="284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LF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DC-3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3792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Verdana"/>
              </a:rPr>
              <a:t>very similar to the BasicTX and BasicRX, respectively, with 2 main differenc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Use differential amplifiers instead of transformers, their frequency response extends down to DC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have 30 MHz low pass filters for antialias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4360" y="25920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TV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50 MHz to 870 M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46120" y="1626840"/>
            <a:ext cx="393048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VHF and UHF receiver system based on a TV tuner modul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an receive a 6 MHz wide block of spectrum from anywhere in the 50-860 MHz rang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ll tuning and AGC functions can be controlled from softwa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57200" y="6172200"/>
            <a:ext cx="77724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8600" y="5943600"/>
            <a:ext cx="8686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1240" indent="-284040">
              <a:lnSpc>
                <a:spcPct val="116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1311120"/>
                <a:tab algn="l" pos="2225520"/>
                <a:tab algn="l" pos="3139920"/>
                <a:tab algn="l" pos="4054320"/>
                <a:tab algn="l" pos="4968720"/>
                <a:tab algn="l" pos="5883120"/>
                <a:tab algn="l" pos="6797520"/>
                <a:tab algn="l" pos="7711920"/>
                <a:tab algn="l" pos="8626320"/>
                <a:tab algn="l" pos="9540720"/>
                <a:tab algn="l" pos="1045512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Note: The TVRX is the only daughterboard which is NOT MIMO capable. A MIMO capable version is expected in Q1 2007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791160" cy="235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DBSRX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 MHz to 2.4 GHz Re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76280" y="1771560"/>
            <a:ext cx="423216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a complete receiver system for 800 MHz to 2.4 GHz with a 3-5 dB noise figu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features a software controllable channel filter as narrow as 1 MHz, or as wide as 60 MHz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MO capable, and can power an active antenna via the coax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5800" y="6172200"/>
            <a:ext cx="777240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ote: The DBSRX is NOT guaranteed to cover the 2.4-2.48 GHz ISM band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790800" cy="34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4360" y="35604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400</a:t>
            </a:r>
            <a:br>
              <a:rPr sz="44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400-50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4896000" cy="42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ideal for UHF TV, public safety and land-mobile communications, low-power unlicensed devices (like key-fobs), wireless sensor networks (motes), and amateur radio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minor modifications to the board can move the frequency range to anywhere from 200 MHz to 800 MHz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5745240" y="1905120"/>
            <a:ext cx="240804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86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Why GNU Radio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777240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Almost free!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All the software are free (Python and C++ source code/linux environment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n most condition, no need expensive RF test machine!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No need to purchase development and emulation tool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Only a development board needed (Universal Software Radio Peripheral)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Flexibl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Soft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reconfigurable for many other modulation methods for both standardize radio or self-defined radio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it is possible to improve the quality of the received signal by utilizing, in software, certain mathematical algorithm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eaeaea"/>
                </a:solidFill>
                <a:latin typeface="Arial"/>
              </a:rPr>
              <a:t>Hardware: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Rx and Tx are select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eaeaea"/>
                </a:solidFill>
                <a:latin typeface="Arial"/>
              </a:rPr>
              <a:t>Intermediate frequency is controllable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aeaea"/>
                </a:solidFill>
                <a:latin typeface="Arial"/>
              </a:rPr>
              <a:t>Best choice for research use and radio amateu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9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800-1000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902-928 MHz ISM-band filter installed for filtering strong out-of-band signals (like pagers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easily be bypassed to allow usage over the full frequency range, enabling use with cellular, paging, motes, and two-way radio, in addition to the ISM b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61880"/>
            <a:ext cx="77709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2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150 MHz - 1450 M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403236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200+mW output (23dBm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eaeaea"/>
                </a:solidFill>
                <a:latin typeface="Arial"/>
              </a:rPr>
              <a:t>Coverage of navigation, satellite, and amateur band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5486400" y="2133720"/>
            <a:ext cx="2487600" cy="43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1800</a:t>
            </a:r>
            <a:br>
              <a:rPr sz="4400"/>
            </a:b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1.5-2.1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45760" y="2203560"/>
            <a:ext cx="7924680" cy="14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Verdan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100+mW output (20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Coverage of DECT, US-DECT, and PCS (including unlicensed) frequenc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4000" y="403560"/>
            <a:ext cx="77706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Verdana"/>
              </a:rPr>
              <a:t>RFX2400</a:t>
            </a:r>
            <a:br>
              <a:rPr sz="2800"/>
            </a:br>
            <a:r>
              <a:rPr b="0" lang="en-GB" sz="2800" spc="-1" strike="noStrike">
                <a:solidFill>
                  <a:srgbClr val="ccecff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ccecff"/>
                </a:solidFill>
                <a:latin typeface="Arial"/>
              </a:rPr>
              <a:t>2.3-2.9 GHz Transceiver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4032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50mW output (17dBm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with a bandpass filter around the ISM band (2400-2483 MHz)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filter can be easily bypassed, allowing for coverage of the full frequency range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5486400" y="1752480"/>
            <a:ext cx="2712960" cy="47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11920" y="231948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2286000"/>
            <a:ext cx="116208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JPEG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Encod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59092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267080" y="272556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48320" y="21337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2209680"/>
            <a:ext cx="152388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354720" y="2743200"/>
            <a:ext cx="2746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811920" y="5214960"/>
            <a:ext cx="1036800" cy="72864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66880" y="5029200"/>
            <a:ext cx="1524240" cy="990720"/>
          </a:xfrm>
          <a:prstGeom prst="can">
            <a:avLst>
              <a:gd name="adj" fmla="val 25000"/>
            </a:avLst>
          </a:prstGeom>
          <a:solidFill>
            <a:srgbClr val="00cc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Hard Disk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637020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15200" y="3276720"/>
            <a:ext cx="0" cy="16761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4266720" y="5638680"/>
            <a:ext cx="2588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5105520"/>
            <a:ext cx="1569960" cy="99036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mo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43000" y="1219320"/>
            <a:ext cx="106668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860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43000" y="4038480"/>
            <a:ext cx="1143000" cy="685800"/>
          </a:xfrm>
          <a:prstGeom prst="rect">
            <a:avLst/>
          </a:prstGeom>
          <a:solidFill>
            <a:srgbClr val="ccec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a"/>
                </a:solidFill>
                <a:latin typeface="Arial"/>
              </a:rPr>
              <a:t>Demodulation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236196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1600200"/>
            <a:ext cx="6094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380520" y="4419720"/>
            <a:ext cx="68580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228600" y="2133720"/>
            <a:ext cx="8686800" cy="1523880"/>
            <a:chOff x="228600" y="2133720"/>
            <a:chExt cx="8686800" cy="1523880"/>
          </a:xfrm>
        </p:grpSpPr>
        <p:sp>
          <p:nvSpPr>
            <p:cNvPr id="522" name=""/>
            <p:cNvSpPr/>
            <p:nvPr/>
          </p:nvSpPr>
          <p:spPr>
            <a:xfrm>
              <a:off x="1143000" y="251460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it to Byt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438280" y="295416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34340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819520" y="243828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02440" y="2971800"/>
              <a:ext cx="27468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6782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En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629400" y="243828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8458200" y="2971800"/>
              <a:ext cx="45720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28600" y="297180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120" y="21337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228600" y="4876920"/>
            <a:ext cx="8838720" cy="1523880"/>
            <a:chOff x="228600" y="4876920"/>
            <a:chExt cx="8838720" cy="1523880"/>
          </a:xfrm>
        </p:grpSpPr>
        <p:sp>
          <p:nvSpPr>
            <p:cNvPr id="533" name=""/>
            <p:cNvSpPr/>
            <p:nvPr/>
          </p:nvSpPr>
          <p:spPr>
            <a:xfrm>
              <a:off x="1066680" y="5181480"/>
              <a:ext cx="1162080" cy="7621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Byte to Bit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4320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Gray code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602240" y="5105520"/>
              <a:ext cx="144756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ifferential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553080" y="5105520"/>
              <a:ext cx="1447920" cy="914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Real to 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Complex</a:t>
              </a: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6095520" y="5562720"/>
              <a:ext cx="3049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1911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362320" y="5562720"/>
              <a:ext cx="3045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28600" y="5562720"/>
              <a:ext cx="53352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8534160" y="5562720"/>
              <a:ext cx="533160" cy="0"/>
            </a:xfrm>
            <a:prstGeom prst="line">
              <a:avLst/>
            </a:prstGeom>
            <a:ln w="38160">
              <a:solidFill>
                <a:srgbClr val="eaeaea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4876920"/>
              <a:ext cx="7696080" cy="1523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5760" y="463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urrent iss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4000" y="1982520"/>
            <a:ext cx="7777080" cy="27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USRP + Microtune 4937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Need a python 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eaeaea"/>
                </a:solidFill>
                <a:latin typeface="Arial"/>
              </a:rPr>
              <a:t>A long way to be commercial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High performance CPU requi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eaeaea"/>
                </a:solidFill>
                <a:latin typeface="Arial"/>
              </a:rPr>
              <a:t>The software is still under develop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What is next?</a:t>
            </a:r>
            <a:br>
              <a:rPr sz="4000"/>
            </a:b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--possible applications and issu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he clock recovery block doesn’t work in the DBPSK 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dd more functions, such as DQPSK, FSK… into our dem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e may test the transmission by actual wireless connection, since receiver doesn’t ensure correct demodulation, for example, carrier tracking, clock recovery, we may need to add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yclic redundancy check (CRC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Retransmission control (ARQ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d on what we have done, we may deploy a research-oriented project nex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760" y="5281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lnSpc>
                <a:spcPct val="116000"/>
              </a:lnSpc>
              <a:spcBef>
                <a:spcPts val="601"/>
              </a:spcBef>
              <a:buNone/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10058400"/>
              </a:tabLst>
            </a:pPr>
            <a:r>
              <a:rPr b="0" lang="en-GB" sz="3600" spc="-1" strike="noStrike">
                <a:solidFill>
                  <a:srgbClr val="ccecff"/>
                </a:solidFill>
                <a:latin typeface="Arial"/>
              </a:rPr>
              <a:t>Extensive knowledge involved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oftware and environment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Python/Numeric python library/wxPyth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++/boost C++ librat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Linux environment and lots of support packages: FFTW/cppunit/SWIG/SDCC/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NU Radio architectu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Communications and RF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SP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Digital communic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ireless communications theo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FPGA and Assemble language may be used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528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is implemented currentl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7772400" cy="493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Base Syste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rovides the runtime and various signal processing primitives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Hardwar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Universal Software Radio Peripheral (USRP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udio Device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ALSA (Advanced Linux Sound Architecture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OSS (Open Sound System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raphics Suppor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wxPython based GUI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16000"/>
              </a:lnSpc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DL video librar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General Signal Process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116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Arial"/>
              </a:rPr>
              <a:t>Specialty Application Are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munication related implem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M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fferential BPSK / QPS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MSK modulation / demodul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arrow band FM transmitter / receiver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ide band FM transmitter &amp; broadcast FM receiv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NU radio ut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C gen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cket setup (TCP / UDP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mpute frequency response of a digital fil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ontrol National IMX2306 &amp; SDR-1000 frequency synthesiz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Some utiliti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Convert unsigned mask into signed integ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Gcd, Lcm, Log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eaeaea"/>
                </a:solidFill>
                <a:latin typeface="Arial"/>
              </a:rPr>
              <a:t>Return input ‘x’ that is reverse ord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GUI examp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Provide window application for different usag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FT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xPython EditBox, Slid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Draw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Waterfall sink te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Oscilloscope Test Appli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ibrary (cont.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eaeaea"/>
                </a:solidFill>
                <a:latin typeface="Arial"/>
              </a:rPr>
              <a:t>pag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Create USRP source object supplying complex floa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eaeaea"/>
                </a:solidFill>
                <a:latin typeface="Arial"/>
              </a:rPr>
              <a:t>Flex pager protocol demodulation blo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ess</cp:lastModifiedBy>
  <dcterms:modified xsi:type="dcterms:W3CDTF">2006-12-09T21:34:21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