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5C7AC-D523-436D-9CD3-F5F254CC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613B-BF7F-4492-84FB-186F6154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CC9A7-8588-4B5B-A4A6-694A849B4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0EEBE-B039-4432-ACDF-E61B8992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6B47F-B112-43A8-84A3-C5F85A0CF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49013-DBA0-48FD-90F7-BC752AB52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18DCE-A24B-482D-9FF3-1D3F5E5D0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9AE90-C4D9-4B36-8ADE-CD346D94D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95EA0-F451-4949-9DBD-4199150FE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B2149-F973-4D6D-B28E-236955B83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B7312-696E-4E78-B909-CB5B714FF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73657-1487-4DAC-94DA-44687CF7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DFB86-084B-4C33-A128-90C373A5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6BAD-0C30-4A97-9F5D-E8F872C6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9BE94-40F5-4066-B557-6E08A3FA4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A2FDC-12B9-4BF0-BD62-645254CFB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8580C-AC5B-4C18-901A-7D12DE794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63A8-6213-4B00-A97D-6E4CAA82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8AF7-4C26-4223-9C6B-61F8FA61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31C6-403E-476F-BBB8-AF7F1618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D4BC6-0466-49E1-A13C-6D785EBC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4C0A-313E-4AA1-A5F3-F9B086B3A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B417-7E2B-4266-867F-59E000FC0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FBDE-A715-4FAC-9F1F-DBDCDAC05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CA53-896B-4716-8D3C-8FA5784E3A8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7C6A-90AE-43AB-A2B4-63B62D4F488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844640"/>
            <a:ext cx="835344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336666"/>
                </a:solidFill>
                <a:latin typeface="Arial Black"/>
              </a:rPr>
              <a:t>Performance analysis of channel estimation and adaptive equalization in slow fading channel</a:t>
            </a:r>
            <a:endParaRPr b="0" i="1" lang="en-US" sz="3700" spc="-1" strike="noStrike">
              <a:solidFill>
                <a:srgbClr val="336666"/>
              </a:solidFill>
              <a:latin typeface="Arial Black"/>
            </a:endParaRPr>
          </a:p>
        </p:txBody>
      </p:sp>
      <p:sp>
        <p:nvSpPr>
          <p:cNvPr id="89" name="PlaceHolder 2"/>
          <p:cNvSpPr>
            <a:spLocks noGrp="1"/>
          </p:cNvSpPr>
          <p:nvPr>
            <p:ph type="subTitle"/>
          </p:nvPr>
        </p:nvSpPr>
        <p:spPr>
          <a:xfrm>
            <a:off x="1752120" y="4241520"/>
            <a:ext cx="5410440" cy="1230120"/>
          </a:xfrm>
          <a:prstGeom prst="rect">
            <a:avLst/>
          </a:prstGeom>
          <a:noFill/>
          <a:ln w="0">
            <a:noFill/>
          </a:ln>
        </p:spPr>
        <p:txBody>
          <a:bodyPr lIns="90000" rIns="90000" tIns="46800" bIns="46800" anchor="ctr">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en Zhifeng</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Electrical and Computer Engineering</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University of Florida</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duce different channels</a:t>
            </a:r>
            <a:endParaRPr b="0" lang="en-US" sz="3300" spc="-1" strike="noStrike">
              <a:solidFill>
                <a:srgbClr val="336666"/>
              </a:solidFill>
              <a:latin typeface="Arial Black"/>
            </a:endParaRPr>
          </a:p>
        </p:txBody>
      </p:sp>
      <p:sp>
        <p:nvSpPr>
          <p:cNvPr id="10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WGN: r = s + 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ow flat Fading r = s.*h + n</a:t>
            </a:r>
            <a:endParaRPr b="0" lang="en-US" sz="31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ow frequency selective fading r = s.*h + n</a:t>
            </a:r>
            <a:endParaRPr b="0" lang="en-US" sz="31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annel estimation for flat fading</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imate the channel phase for PSK modul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first 8% data to training the detector</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1080 @ 20km/hr </a:t>
            </a:r>
            <a:r>
              <a:rPr b="0" lang="en-US" sz="2600" spc="-1" strike="noStrike">
                <a:solidFill>
                  <a:srgbClr val="000000"/>
                </a:solidFill>
                <a:latin typeface="Wingdings"/>
                <a:ea typeface="Wingdings"/>
              </a:rPr>
              <a:t></a:t>
            </a:r>
            <a:r>
              <a:rPr b="0" lang="en-US" sz="2600" spc="-1" strike="noStrike">
                <a:solidFill>
                  <a:srgbClr val="000000"/>
                </a:solidFill>
                <a:latin typeface="Arial"/>
              </a:rPr>
              <a:t> 86 pilot data</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180 @ 120km/hr </a:t>
            </a:r>
            <a:r>
              <a:rPr b="0" lang="en-US" sz="2600" spc="-1" strike="noStrike">
                <a:solidFill>
                  <a:srgbClr val="000000"/>
                </a:solidFill>
                <a:latin typeface="Wingdings"/>
                <a:ea typeface="Wingdings"/>
              </a:rPr>
              <a:t></a:t>
            </a:r>
            <a:r>
              <a:rPr b="0" lang="en-US" sz="2600" spc="-1" strike="noStrike">
                <a:solidFill>
                  <a:srgbClr val="000000"/>
                </a:solidFill>
                <a:latin typeface="Arial"/>
              </a:rPr>
              <a:t> 14 pilot data</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the mean of phase shift in the pilot to adjust the received signal phase</a:t>
            </a:r>
            <a:endParaRPr b="0" lang="en-US" sz="3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Equalization for frequency selective fading</a:t>
            </a:r>
            <a:br>
              <a:rPr sz="2900"/>
            </a:br>
            <a:endParaRPr b="0" lang="en-US" sz="29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3000"/>
          </a:bodyPr>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first 8% data to training the equalizer</a:t>
            </a:r>
            <a:endParaRPr b="0" lang="en-US" sz="3100" spc="-1" strike="noStrike">
              <a:solidFill>
                <a:srgbClr val="000000"/>
              </a:solidFill>
              <a:latin typeface="Arial"/>
            </a:endParaRPr>
          </a:p>
          <a:p>
            <a:pPr lvl="1" marL="690840" indent="-26568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4300 @ 5km/hr </a:t>
            </a:r>
            <a:r>
              <a:rPr b="0" lang="en-US" sz="2600" spc="-1" strike="noStrike">
                <a:solidFill>
                  <a:srgbClr val="000000"/>
                </a:solidFill>
                <a:latin typeface="Wingdings"/>
                <a:ea typeface="Wingdings"/>
              </a:rPr>
              <a:t></a:t>
            </a:r>
            <a:r>
              <a:rPr b="0" lang="en-US" sz="2600" spc="-1" strike="noStrike">
                <a:solidFill>
                  <a:srgbClr val="000000"/>
                </a:solidFill>
                <a:latin typeface="Arial"/>
              </a:rPr>
              <a:t> 344 pilot data</a:t>
            </a:r>
            <a:endParaRPr b="0" lang="en-US" sz="26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linear equalization: LMS &amp; RLS</a:t>
            </a:r>
            <a:endParaRPr b="0" lang="en-US" sz="31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training only and decision directed</a:t>
            </a:r>
            <a:endParaRPr b="0" lang="en-US" sz="31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reset equalizer weights or not before beginning a new training cycle in next coherence time</a:t>
            </a:r>
            <a:endParaRPr b="0" lang="en-US" sz="3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imulation and Experimental Result</a:t>
            </a:r>
            <a:endParaRPr b="0" lang="en-US" sz="29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AWGN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slow flat fading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slow frequency selective fading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parison among three channels</a:t>
            </a:r>
            <a:endParaRPr b="0" lang="en-US" sz="3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AWGN channel</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en-US" sz="2700" spc="-1" strike="noStrike">
                <a:solidFill>
                  <a:srgbClr val="000000"/>
                </a:solidFill>
                <a:latin typeface="Arial"/>
              </a:rPr>
              <a:t>	</a:t>
            </a:r>
            <a:r>
              <a:rPr b="0" lang="en-US" sz="2700" spc="-1" strike="noStrike">
                <a:solidFill>
                  <a:srgbClr val="000000"/>
                </a:solidFill>
                <a:latin typeface="Arial"/>
              </a:rPr>
              <a:t>BER of simulation vs theoretical</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R performance of simulation result is closely identical to theoretical BER.</a:t>
            </a:r>
            <a:endParaRPr b="0" lang="en-US" sz="22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en-US" sz="2700" spc="-1" strike="noStrike">
                <a:solidFill>
                  <a:srgbClr val="000000"/>
                </a:solidFill>
                <a:latin typeface="Arial"/>
              </a:rPr>
              <a:t>	</a:t>
            </a:r>
            <a:r>
              <a:rPr b="0" lang="en-US" sz="2700" spc="-1" strike="noStrike">
                <a:solidFill>
                  <a:srgbClr val="000000"/>
                </a:solidFill>
                <a:latin typeface="Arial"/>
              </a:rPr>
              <a:t>Image quality of received vs original</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ceived image is plot at SNR = 5dB, we see there are some random noises in the image. From simulation result, the received image quality is almost the same as original at SNR = 10dB. </a:t>
            </a:r>
            <a:endParaRPr b="0" lang="en-US" sz="22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rPr>
              <a:t>BER of Image vs random data</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relation between image pixel does not effect the BER in AWGN channel.</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lat fading channel</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BER of simulation vs theoretical </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 performance of simulation result is worse than theoretical BER since we do not know exactly the channel phase information</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 is improved dramatically in low SNR, while not in high SNR. Since in low SNR, white Gaussian noise dominate the BER error, which can be improved by enhancing SNR; while in high SNR, phase estimation error dominate the BER error, which can not be improved by simply enhancing SNR.</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BER &amp; constellation of training vs non-training</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ellation is plot at SNR = 25dB, we see both the BER performance and constellation are greatly improved by channel phase estim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lat fading channel –Cont.</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4000"/>
          </a:bodyPr>
          <a:p>
            <a:pPr marL="322200" indent="-3222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0" lang="en-US" sz="3100" spc="-1" strike="noStrike">
                <a:solidFill>
                  <a:srgbClr val="000000"/>
                </a:solidFill>
                <a:latin typeface="Arial"/>
              </a:rPr>
              <a:t>	</a:t>
            </a:r>
            <a:r>
              <a:rPr b="0" lang="en-US" sz="3100" spc="-1" strike="noStrike">
                <a:solidFill>
                  <a:srgbClr val="000000"/>
                </a:solidFill>
                <a:latin typeface="Arial"/>
              </a:rPr>
              <a:t>Image quality of received vs adjusted</a:t>
            </a:r>
            <a:endParaRPr b="0" lang="en-US" sz="3100" spc="-1" strike="noStrike">
              <a:solidFill>
                <a:srgbClr val="000000"/>
              </a:solidFill>
              <a:latin typeface="Arial"/>
            </a:endParaRPr>
          </a:p>
          <a:p>
            <a:pPr lvl="1" marL="698400" indent="-2685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ceived image is plot at SNR = 25dB, we see that other than some random noise, there is some block noise in the image. This is due to the phase estimation error in a coherence time.</a:t>
            </a:r>
            <a:endParaRPr b="0" lang="en-US" sz="2600" spc="-1" strike="noStrike">
              <a:solidFill>
                <a:srgbClr val="000000"/>
              </a:solidFill>
              <a:latin typeface="Arial"/>
            </a:endParaRPr>
          </a:p>
          <a:p>
            <a:pPr marL="322200" indent="-3222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a:t>
            </a:r>
            <a:r>
              <a:rPr b="0" lang="en-US" sz="3100" spc="-1" strike="noStrike">
                <a:solidFill>
                  <a:srgbClr val="000000"/>
                </a:solidFill>
                <a:latin typeface="Arial"/>
              </a:rPr>
              <a:t>	</a:t>
            </a:r>
            <a:r>
              <a:rPr b="0" lang="en-US" sz="3100" spc="-1" strike="noStrike">
                <a:solidFill>
                  <a:srgbClr val="000000"/>
                </a:solidFill>
                <a:latin typeface="Arial"/>
              </a:rPr>
              <a:t>BER of Image vs random data</a:t>
            </a:r>
            <a:endParaRPr b="0" lang="en-US" sz="3100" spc="-1" strike="noStrike">
              <a:solidFill>
                <a:srgbClr val="000000"/>
              </a:solidFill>
              <a:latin typeface="Arial"/>
            </a:endParaRPr>
          </a:p>
          <a:p>
            <a:pPr lvl="1" marL="698400" indent="-2685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relation between image pixels does not affect the BER in flat fading channel.</a:t>
            </a:r>
            <a:endParaRPr b="0" lang="en-US" sz="2600" spc="-1" strike="noStrike">
              <a:solidFill>
                <a:srgbClr val="000000"/>
              </a:solidFill>
              <a:latin typeface="Arial"/>
            </a:endParaRPr>
          </a:p>
          <a:p>
            <a:pPr marL="32220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BER of simulation vs theoretical</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 of simulation result is worse than theoratical BER. The reason is same from above reason addressed in flat fading channel. </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rom in flat fading channel, the BER performance is improved dramastically in low SNR, while even degraded in high SNR. This is also reasonable, since in high SNR, phase estimation error and ISI dominate the BER error, and the estimation error will cause even severe ISI., which cause the BER even worse.</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BER &amp; constellation of training vs non-training</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ellation is plot at SNR = 25dB, we see both the BER performance and constellation are greatly improved by channel phase estim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 –Cont.</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Reset vs continue training result</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s of resetting the state of equalizer come from training result of last coherence time is worse than using the result of last coherence time.</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Training only vs decision directed mode</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is improved by using decision directed mode, since the time-variant property of the channel cause the channel change from estimation result of training data.</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en-US" sz="2200" spc="-1" strike="noStrike">
                <a:solidFill>
                  <a:srgbClr val="000000"/>
                </a:solidFill>
                <a:latin typeface="Arial"/>
              </a:rPr>
              <a:t>	</a:t>
            </a:r>
            <a:r>
              <a:rPr b="0" lang="en-US" sz="2200" spc="-1" strike="noStrike">
                <a:solidFill>
                  <a:srgbClr val="000000"/>
                </a:solidFill>
                <a:latin typeface="Arial"/>
              </a:rPr>
              <a:t>LMS vs RLS</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s are almost same for both of them</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S need more training data to converge the equalizer comparing to RLS</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LS has more complexity and time consuming.</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 –Cont.</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a:t>
            </a:r>
            <a:r>
              <a:rPr b="0" lang="en-US" sz="2700" spc="-1" strike="noStrike">
                <a:solidFill>
                  <a:srgbClr val="000000"/>
                </a:solidFill>
                <a:latin typeface="Arial"/>
              </a:rPr>
              <a:t>	</a:t>
            </a:r>
            <a:r>
              <a:rPr b="0" lang="en-US" sz="2700" spc="-1" strike="noStrike">
                <a:solidFill>
                  <a:srgbClr val="000000"/>
                </a:solidFill>
                <a:latin typeface="Arial"/>
              </a:rPr>
              <a:t>Image quality of received vs original</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eived image is plot at SNR = 25dB, we see that other than some random noise and block noise in the image, there are some overlaps in the image. This is due to the whilte Gaussian noise, phase estimation error in a coherence time, and ISI caused by frequency selective fading channel.</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7)</a:t>
            </a:r>
            <a:r>
              <a:rPr b="0" lang="nl-NL" sz="2700" spc="-1" strike="noStrike">
                <a:solidFill>
                  <a:srgbClr val="000000"/>
                </a:solidFill>
                <a:latin typeface="Arial"/>
              </a:rPr>
              <a:t>	</a:t>
            </a:r>
            <a:r>
              <a:rPr b="0" lang="nl-NL" sz="2700" spc="-1" strike="noStrike">
                <a:solidFill>
                  <a:srgbClr val="000000"/>
                </a:solidFill>
                <a:latin typeface="Arial"/>
              </a:rPr>
              <a:t>BER of Image vs random data</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relation between image pixels does not effect the BER in frequency selective fading channel.</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tline</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ystem Model and Main Techniq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ulation and Experimental Resul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ssible Improvemen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y Questions</a:t>
            </a:r>
            <a:endParaRPr b="0" lang="en-US" sz="31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parison among three channels</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en-US" sz="2700" spc="-1" strike="noStrike">
                <a:solidFill>
                  <a:srgbClr val="000000"/>
                </a:solidFill>
                <a:latin typeface="Arial"/>
              </a:rPr>
              <a:t>	</a:t>
            </a:r>
            <a:r>
              <a:rPr b="0" lang="en-US" sz="2700" spc="-1" strike="noStrike">
                <a:solidFill>
                  <a:srgbClr val="000000"/>
                </a:solidFill>
                <a:latin typeface="Arial"/>
              </a:rPr>
              <a:t>For Image comparison</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WGN channel, the image is degraded by random noise; in flat fading channel, the image is degraded by random noise and block noise; in frequency selective fading channel, the image is degraded by random noise, block noise, and overlap.</a:t>
            </a:r>
            <a:endParaRPr b="0" lang="en-US" sz="22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en-US" sz="2700" spc="-1" strike="noStrike">
                <a:solidFill>
                  <a:srgbClr val="000000"/>
                </a:solidFill>
                <a:latin typeface="Arial"/>
              </a:rPr>
              <a:t>	</a:t>
            </a:r>
            <a:r>
              <a:rPr b="0" lang="en-US" sz="2700" spc="-1" strike="noStrike">
                <a:solidFill>
                  <a:srgbClr val="000000"/>
                </a:solidFill>
                <a:latin typeface="Arial"/>
              </a:rPr>
              <a:t>For BER performance comparison</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R performance is best in AWGN channel, worse in flat fading channel and worst in frequency selective fading channel. They are exactly as the theoretical analysi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ssible Improvemen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flat fading channel, we training the detector by the pilot data in the head of source data in each coherence time.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 channel is time-variant even during one coherence time, so in our future simulation, we may use different interpolation algo-rithms between different coherence time to improve the esti-mated channel phase and amplitude informance.</a:t>
            </a:r>
            <a:endParaRPr b="0" lang="en-US" sz="27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ssible Improvement –Cont.</a:t>
            </a:r>
            <a:endParaRPr b="0" lang="en-US" sz="3300" spc="-1" strike="noStrike">
              <a:solidFill>
                <a:srgbClr val="336666"/>
              </a:solidFill>
              <a:latin typeface="Arial Black"/>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use linear equalizer in our present model. As well know, linear equalizers do not perform well on channels which have deep spectral nulls in the passband.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le frequency selective fading channel normally cause the deep spectral nulls, so in our future simulation, we may improve this by add Decision Feedback Equalization (DFE).</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a:t>
            </a:r>
            <a:endParaRPr b="0" lang="en-US" sz="3300" spc="-1" strike="noStrike">
              <a:solidFill>
                <a:srgbClr val="336666"/>
              </a:solidFill>
              <a:latin typeface="Arial Black"/>
            </a:endParaRPr>
          </a:p>
        </p:txBody>
      </p:sp>
      <p:sp>
        <p:nvSpPr>
          <p:cNvPr id="13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oject, we choose PSK modulation to test the effect of different channels to the received data. So, we only use estimate the channel phase information.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may add more modulation techniques in our model, such as ASK and QAM with different modulation orders. Then we will need to estimation both the channel phase information and amplitude information.</a:t>
            </a:r>
            <a:endParaRPr b="0" lang="en-US" sz="27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 –Cont.</a:t>
            </a:r>
            <a:endParaRPr b="0" lang="en-US" sz="3300" spc="-1" strike="noStrike">
              <a:solidFill>
                <a:srgbClr val="336666"/>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oject, we produce two different scenarios by simulate a GSM carrier frequency and bandwidth, and use pilot data to estimate the channel phase. All of these are simulated in Matlab at present.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our future model, we may integrate our model into Qualnet, which will give a better environment to simulate a wireless network model.</a:t>
            </a: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 –Cont.</a:t>
            </a:r>
            <a:endParaRPr b="0" lang="en-US" sz="33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next project, we will integrate the project with last project, i.e. GNU Radio project, and test our algorithm on the practical communication system.</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need to do some revision based on the practical system, such as add differential coding due to asynchronization, add pulse shaping, etc.</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add link layer protocol into the practical system, and test our algorithm.</a:t>
            </a: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ystem Model and Main Techniques</a:t>
            </a:r>
            <a:endParaRPr b="0" lang="en-US" sz="2900" spc="-1" strike="noStrike">
              <a:solidFill>
                <a:srgbClr val="336666"/>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low chart diagra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uild up our mod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e data and set paramet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e different channe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annel estimation for flat fad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qualization for frequency selective fading</a:t>
            </a:r>
            <a:endParaRPr b="0" lang="en-US" sz="3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low chart diagram</a:t>
            </a:r>
            <a:endParaRPr b="0" lang="en-US" sz="3300" spc="-1" strike="noStrike">
              <a:solidFill>
                <a:srgbClr val="336666"/>
              </a:solidFill>
              <a:latin typeface="Arial Black"/>
            </a:endParaRPr>
          </a:p>
        </p:txBody>
      </p:sp>
      <p:pic>
        <p:nvPicPr>
          <p:cNvPr id="95" name="" descr=""/>
          <p:cNvPicPr/>
          <p:nvPr/>
        </p:nvPicPr>
        <p:blipFill>
          <a:blip r:embed="rId1"/>
          <a:stretch/>
        </p:blipFill>
        <p:spPr>
          <a:xfrm>
            <a:off x="1023840" y="2371680"/>
            <a:ext cx="7175520" cy="310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a:t>
            </a:r>
            <a:br>
              <a:rPr sz="3300"/>
            </a:b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a:t>
            </a:r>
            <a:r>
              <a:rPr b="1" lang="en-US" sz="3100" spc="-1" strike="noStrike">
                <a:solidFill>
                  <a:srgbClr val="ff0000"/>
                </a:solidFill>
                <a:latin typeface="Arial"/>
              </a:rPr>
              <a:t>slow fading</a:t>
            </a:r>
            <a:r>
              <a:rPr b="0" lang="en-US" sz="3100" spc="-1" strike="noStrike">
                <a:solidFill>
                  <a:srgbClr val="000000"/>
                </a:solidFill>
                <a:latin typeface="Arial"/>
              </a:rPr>
              <a:t>, Ts&lt;&lt;Tc</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a:t>
            </a:r>
            <a:r>
              <a:rPr b="0" i="1" lang="en-US" sz="3100" spc="-1" strike="noStrike">
                <a:solidFill>
                  <a:srgbClr val="000000"/>
                </a:solidFill>
                <a:latin typeface="Arial"/>
              </a:rPr>
              <a:t> </a:t>
            </a:r>
            <a:r>
              <a:rPr b="0" lang="en-US" sz="3100" spc="-1" strike="noStrike">
                <a:solidFill>
                  <a:srgbClr val="000000"/>
                </a:solidFill>
                <a:latin typeface="Arial"/>
              </a:rPr>
              <a:t>flat fading, Ts&gt;&gt;</a:t>
            </a:r>
            <a:r>
              <a:rPr b="0" lang="el-GR" sz="3100" spc="-1" strike="noStrike">
                <a:solidFill>
                  <a:srgbClr val="000000"/>
                </a:solidFill>
                <a:latin typeface="Arial"/>
                <a:ea typeface="Times New Roman"/>
              </a:rPr>
              <a:t>σ</a:t>
            </a:r>
            <a:r>
              <a:rPr b="0" lang="el-GR" sz="3100" spc="-1" strike="noStrike" baseline="-25000">
                <a:solidFill>
                  <a:srgbClr val="000000"/>
                </a:solidFill>
                <a:latin typeface="宋体"/>
                <a:ea typeface="Times New Roman"/>
              </a:rPr>
              <a:t>τ</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frequency selective fading, Ts &lt; </a:t>
            </a:r>
            <a:r>
              <a:rPr b="0" lang="el-GR" sz="3100" spc="-1" strike="noStrike">
                <a:solidFill>
                  <a:srgbClr val="000000"/>
                </a:solidFill>
                <a:latin typeface="Arial"/>
                <a:ea typeface="Times New Roman"/>
              </a:rPr>
              <a:t>σ</a:t>
            </a:r>
            <a:r>
              <a:rPr b="0" lang="el-GR" sz="3100" spc="-1" strike="noStrike" baseline="-25000">
                <a:solidFill>
                  <a:srgbClr val="000000"/>
                </a:solidFill>
                <a:latin typeface="宋体"/>
                <a:ea typeface="Times New Roman"/>
              </a:rPr>
              <a:t>τ</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 we get:</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lt;&lt;Ts&lt;&lt;Tc for a </a:t>
            </a:r>
            <a:r>
              <a:rPr b="1" lang="en-US" sz="2600" spc="-1" strike="noStrike">
                <a:solidFill>
                  <a:srgbClr val="ff0000"/>
                </a:solidFill>
                <a:latin typeface="Arial"/>
              </a:rPr>
              <a:t>slow flat fading </a:t>
            </a:r>
            <a:r>
              <a:rPr b="0" lang="en-US" sz="2600" spc="-1" strike="noStrike">
                <a:solidFill>
                  <a:srgbClr val="000000"/>
                </a:solidFill>
                <a:latin typeface="Arial"/>
              </a:rPr>
              <a:t>channel</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s&lt;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lt;Tc for </a:t>
            </a:r>
            <a:r>
              <a:rPr b="1" lang="en-US" sz="2600" spc="-1" strike="noStrike">
                <a:solidFill>
                  <a:srgbClr val="ff0000"/>
                </a:solidFill>
                <a:latin typeface="Arial"/>
              </a:rPr>
              <a:t>slow frequency selective fading</a:t>
            </a:r>
            <a:r>
              <a:rPr b="0" lang="en-US" sz="2600" spc="-1" strike="noStrike">
                <a:solidFill>
                  <a:srgbClr val="000000"/>
                </a:solidFill>
                <a:latin typeface="Arial"/>
              </a:rPr>
              <a:t> channel.</a:t>
            </a:r>
            <a:endParaRPr b="0" lang="en-US" sz="26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9880" y="723600"/>
            <a:ext cx="754056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wo Scenarios: Urban and Suburb</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ose in both environments, there are no dominant stationary signal component, such as light-of-sight path , i.e. </a:t>
            </a:r>
            <a:r>
              <a:rPr b="1" lang="en-US" sz="2700" spc="-1" strike="noStrike">
                <a:solidFill>
                  <a:srgbClr val="ff0000"/>
                </a:solidFill>
                <a:latin typeface="Arial"/>
              </a:rPr>
              <a:t>Rayleigh fad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simulate GSM:</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ier frequency: fc = 1.8GHz</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ndwidth of each channel: 200KHz</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 period: Ts = 5us for Nyquist pulse</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rst scenario – </a:t>
            </a:r>
            <a:r>
              <a:rPr b="1" lang="en-US" sz="3100" spc="-1" strike="noStrike">
                <a:solidFill>
                  <a:srgbClr val="ff0000"/>
                </a:solidFill>
                <a:latin typeface="Arial"/>
              </a:rPr>
              <a:t>urban environment</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delay spread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10 us (in Rappaport)</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alking at: 5km/h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herence time Tc = 9/(16*pi*fm) = 21.5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s (5us) &lt;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10us) &lt; Tc (21.5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t is a </a:t>
            </a:r>
            <a:r>
              <a:rPr b="1" lang="en-US" sz="2600" spc="-1" strike="noStrike">
                <a:solidFill>
                  <a:srgbClr val="ff0000"/>
                </a:solidFill>
                <a:latin typeface="Arial"/>
              </a:rPr>
              <a:t>slow frequency selective fading channe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scenario – </a:t>
            </a:r>
            <a:r>
              <a:rPr b="1" lang="en-US" sz="2700" spc="-1" strike="noStrike">
                <a:solidFill>
                  <a:srgbClr val="ff0000"/>
                </a:solidFill>
                <a:latin typeface="Arial"/>
              </a:rPr>
              <a:t>suburb environment</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S delay spread </a:t>
            </a:r>
            <a:r>
              <a:rPr b="0" lang="el-GR" sz="2200" spc="-1" strike="noStrike">
                <a:solidFill>
                  <a:srgbClr val="000000"/>
                </a:solidFill>
                <a:latin typeface="Arial"/>
                <a:ea typeface="Times New Roman"/>
              </a:rPr>
              <a:t>σ</a:t>
            </a:r>
            <a:r>
              <a:rPr b="0" lang="el-GR" sz="2200" spc="-1" strike="noStrike" baseline="-25000">
                <a:solidFill>
                  <a:srgbClr val="000000"/>
                </a:solidFill>
                <a:latin typeface="宋体"/>
                <a:ea typeface="Times New Roman"/>
              </a:rPr>
              <a:t>τ</a:t>
            </a:r>
            <a:r>
              <a:rPr b="0" lang="en-US" sz="2200" spc="-1" strike="noStrike">
                <a:solidFill>
                  <a:srgbClr val="000000"/>
                </a:solidFill>
                <a:latin typeface="Arial"/>
              </a:rPr>
              <a:t>= 300 ns (in Rappaport)</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se on a train at: 20-120km/hr</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 = 20km/hr </a:t>
            </a:r>
            <a:r>
              <a:rPr b="0" lang="en-US" sz="2200" spc="-1" strike="noStrike">
                <a:solidFill>
                  <a:srgbClr val="000000"/>
                </a:solidFill>
                <a:latin typeface="Wingdings"/>
                <a:ea typeface="Wingdings"/>
              </a:rPr>
              <a:t></a:t>
            </a:r>
            <a:r>
              <a:rPr b="0" lang="en-US" sz="2200" spc="-1" strike="noStrike">
                <a:solidFill>
                  <a:srgbClr val="000000"/>
                </a:solidFill>
                <a:latin typeface="Arial"/>
              </a:rPr>
              <a:t> fm = fc*V/C = 33.3Hz</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rence time Tc = 9/(16*pi*fm) = 5.4m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σ</a:t>
            </a:r>
            <a:r>
              <a:rPr b="0" lang="el-GR" sz="2000" spc="-1" strike="noStrike" baseline="-25000">
                <a:solidFill>
                  <a:srgbClr val="000000"/>
                </a:solidFill>
                <a:latin typeface="宋体"/>
                <a:ea typeface="Times New Roman"/>
              </a:rPr>
              <a:t>τ</a:t>
            </a:r>
            <a:r>
              <a:rPr b="0" lang="en-US" sz="2000" spc="-1" strike="noStrike">
                <a:solidFill>
                  <a:srgbClr val="000000"/>
                </a:solidFill>
                <a:latin typeface="Arial"/>
              </a:rPr>
              <a:t> (300ns) &lt; Ts (5us) &lt; Tc (5.4ms)</a:t>
            </a:r>
            <a:endParaRPr b="0" lang="en-US" sz="20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 = 120km/hr </a:t>
            </a:r>
            <a:r>
              <a:rPr b="0" lang="en-US" sz="2200" spc="-1" strike="noStrike">
                <a:solidFill>
                  <a:srgbClr val="000000"/>
                </a:solidFill>
                <a:latin typeface="Wingdings"/>
                <a:ea typeface="Wingdings"/>
              </a:rPr>
              <a:t></a:t>
            </a:r>
            <a:r>
              <a:rPr b="0" lang="en-US" sz="2200" spc="-1" strike="noStrike">
                <a:solidFill>
                  <a:srgbClr val="000000"/>
                </a:solidFill>
                <a:latin typeface="Arial"/>
              </a:rPr>
              <a:t> fm = fc*V/C = 200Hz</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rence time Tc = 9/(16*pi*fm) = 900u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σ</a:t>
            </a:r>
            <a:r>
              <a:rPr b="0" lang="el-GR" sz="2000" spc="-1" strike="noStrike" baseline="-25000">
                <a:solidFill>
                  <a:srgbClr val="000000"/>
                </a:solidFill>
                <a:latin typeface="宋体"/>
                <a:ea typeface="Times New Roman"/>
              </a:rPr>
              <a:t>τ</a:t>
            </a:r>
            <a:r>
              <a:rPr b="0" lang="en-US" sz="2000" spc="-1" strike="noStrike">
                <a:solidFill>
                  <a:srgbClr val="000000"/>
                </a:solidFill>
                <a:latin typeface="Arial"/>
              </a:rPr>
              <a:t> (300ns) &lt; Ts (5us) &lt; Tc (900us)</a:t>
            </a:r>
            <a:endParaRPr b="0" lang="en-US" sz="20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they are both </a:t>
            </a:r>
            <a:r>
              <a:rPr b="1" lang="en-US" sz="2200" spc="-1" strike="noStrike">
                <a:solidFill>
                  <a:srgbClr val="ff0000"/>
                </a:solidFill>
                <a:latin typeface="Arial"/>
              </a:rPr>
              <a:t>slow flat fading channel</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duce data and set parameters</a:t>
            </a: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random data and image data</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ulation: Phase shift keying (PSK)</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ur simulation, use QPSK</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ay use Gray coding or no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8% pilot data is inserted preceding source data in each coherence tim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mes</cp:lastModifiedBy>
  <dcterms:modified xsi:type="dcterms:W3CDTF">2007-05-21T17:22:07Z</dcterms:modified>
  <cp:revision>7</cp:revision>
  <dc:subject/>
  <dc:title>PowerPoint Presentation</dc:title>
</cp:coreProperties>
</file>